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9.jpeg" ContentType="image/jpeg"/>
  <Override PartName="/ppt/media/image8.jpeg" ContentType="image/jpeg"/>
  <Override PartName="/ppt/media/image1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png" ContentType="image/png"/>
  <Override PartName="/ppt/media/image13.jpeg" ContentType="image/jpeg"/>
  <Override PartName="/ppt/media/image33.png" ContentType="image/png"/>
  <Override PartName="/ppt/media/image34.png" ContentType="image/png"/>
  <Override PartName="/ppt/media/image12.jpeg" ContentType="image/jpeg"/>
  <Override PartName="/ppt/media/image3.jpeg" ContentType="image/jpeg"/>
  <Override PartName="/ppt/media/image37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9.png" ContentType="image/png"/>
  <Override PartName="/ppt/media/image38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36.png" ContentType="image/png"/>
  <Override PartName="/ppt/media/image40.png" ContentType="image/png"/>
  <Override PartName="/ppt/media/image4.jpeg" ContentType="image/jpeg"/>
  <Override PartName="/ppt/media/image25.jpeg" ContentType="image/jpeg"/>
  <Override PartName="/ppt/media/image32.png" ContentType="image/png"/>
  <Override PartName="/ppt/media/image1.jpeg" ContentType="image/jpeg"/>
  <Override PartName="/ppt/media/image2.jpeg" ContentType="image/jpeg"/>
  <Override PartName="/ppt/media/image23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move the slide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E508F-3262-4C46-8F24-77C59F9C358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D5F59-CC73-4256-B196-DCA61918813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DBDF-DCA3-4BB8-9FE4-81BE47586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F930-0EBD-4EC0-B89C-22165B93A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7DC4A3-C7CE-462C-A7FF-783EE1471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E121E9-67B3-4EAB-9C91-DA6885D65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556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508442-1332-4680-964F-A9375671D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744111-3F97-4CE0-985D-0457F47A7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C2B61D-2643-407A-82FC-A0FF31C7B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6879DC-5AC5-4FC3-8B4D-7AB333A9D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6E18BF-48A4-4742-8BB1-B2305F479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BA7024-86C2-465C-AB2A-E655E9FF0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B546A7-8CFC-46FC-892D-ED6B90144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E9C4A1-198E-4926-8AB9-23709AF7B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D32E-F425-46AB-87B8-1BA5B0D61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72ACB2-C4E3-4253-93BC-DE496CED6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4D135F-3C2F-490C-A062-E747F46D6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646525-DB90-4DB2-911A-1AC8B0780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E80E0A-82EF-4BF5-9EF8-2EF0DE581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556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B1FF4B-16B8-4A94-A425-33A47294E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4E668A-420A-4BA8-9A33-95D9E1D71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562B57-0E52-4FFB-B855-606E3EC9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1AB05C-9132-4D72-8486-7D236E614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B2B076-49BD-4840-A8A1-EDDF4BF0B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ECC00D-31C8-4CC8-8183-67C80386B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FDB1-5D51-4A3D-B750-1E09EDFFE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6DD83C-2CE5-43FE-A52D-E09D57FAA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C7128-3751-45B5-99BE-AD53DA169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5AFB0-F788-4FA0-BA6A-2041D559A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FB1B0-5C6D-4421-BCF2-29864A9C8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498FE-D1CB-4875-9ADF-5E820815B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F5A8B-F2D8-4810-B517-07FD5A540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556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2C864-A44F-4EBF-AC71-C67FC49C0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1A0B4-61A2-413B-9B44-5A09F2AE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EAE9-B8BD-43A9-8FE0-31B782EC6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B7701-C8A8-457D-8672-2AC49FAF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2C938-5402-449E-B1D8-2F56D0FF9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8AED7-41D1-4BA5-A2D7-86874CBC9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066AC-651C-4C04-ACD2-F6BE08BB9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BCEC1-86D8-4E13-BD37-2158F679E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46A07-DEBA-4461-90AB-739411CF1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6DDA1-E0C8-463E-BF6C-2C9CF5AA2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7C796-FF1E-44F5-925D-40AB21D31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317D6-3DD8-429C-A906-456EC8EC9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DBF24-9352-4E58-B32D-3B6A26C73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D83E-2D25-479A-B0D7-33F978933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556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EBFDC-1FDC-4042-A1E1-2167DF1C9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58216-5C1E-43C7-BA62-B9B0AE10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44A3D-A30C-4E12-9452-ED3200981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6E6EF-A39E-400F-BE9C-1A4B65F9F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724D7-4E75-4D06-B3EC-96DC49DD0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0552A-0565-42A9-9E59-0B193BD50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9923F-1A25-4BB3-948A-71EAAD2B9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37F4E-C05F-4CF2-8376-5C12B076A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2BCE4-A1C2-4A05-9576-E2DB3D9B4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62AA1-E0B5-4028-BAA6-B65CC2B27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D7C8-094A-496E-B624-B84E01B88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6F0F4-23C7-4071-8312-8CDDC8A8C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7EAEC-ADB5-40D3-B798-B1C1D1010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556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0E0EA-A7A3-4AD6-B284-A2D62757F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A608A-BB5C-41AD-8F03-4E6C9DDB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DDBB8-AF68-481E-A74E-1CC4AE0C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D4CBC-2BA2-469F-AEB7-682C33699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B5248-D3AF-4B13-8EC3-C3552D7D0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8C381-456B-4BEE-A2A6-32935404B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B3D0C-D962-4A01-B1C6-BDD6638F1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B78B9-B1A1-495C-B58C-8CA2102BF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55C7-E353-41DE-AEFE-E72709AF9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283F5C-1920-495E-B70F-0601B8F8C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95C2F-5EFB-457C-8AC0-9C2AF5F6E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C7DB76-18D2-44D5-80FD-F194C037E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274415-ED71-4B1B-96B7-08D357CE6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556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C8949-F10F-4810-9469-914DF6F2E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3DC011-58B9-4128-A534-32527401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600D1-815F-4844-9549-46CB6CAB2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990BD2-69DB-4D53-BB7D-2DD56766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36083-0039-4236-AC7B-292D6DCFE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BDF84C-F672-44A8-9D01-8FECBE96B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556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53C6-768C-4309-B475-118AB517E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52ABF-3529-49E2-BF4D-5C840AA6B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6E9657-BEF7-4B3E-8A42-F740EA2A0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D30F97-791E-430E-A0A5-499DD9B57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CA318A-6407-4F6F-A5CC-162F2302A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F482D0-F80B-41FE-88B3-1CEC233A7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6784BC-0CB8-4799-8546-7255B84EF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556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67FF36-DC5C-45C3-9DED-5907F61E3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1BCDE9-2A25-413D-A962-8FA3CF56C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BA103D-CFC1-4EF1-AC73-C1EA90771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B5C686-7229-4A57-BFEA-CED0B035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4566-F17E-4154-8A5F-108DB9BB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C0C986-832C-4174-86F8-427F7D25F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6C4841-3039-414B-AD0D-61339A475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DE0C1A-ECEF-455E-B3BA-099BAC152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C660DB-8D11-466D-A64B-DD05FADD3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1FDA46-2A4B-4CBB-87BC-C0607C9FB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D9E01E-138C-4D4E-9058-C6D481312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1DD1A9-A09B-4317-BFB3-677324554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B85D5F-3E90-4074-8492-779B0E942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556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072231-06BF-425F-BABB-E8695B0C0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B42CCB-FD8B-4BF5-A6B3-0E4F4200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CDEB-66A1-4292-90B7-30E934D9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74A773-C4E2-406E-9A9C-AA5CAD813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752E1C-DF9F-4269-9C78-2BA22CAE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1C56D6-197A-452F-939B-CCC7C7D17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13B2EB-730D-4B56-BA74-9E95CDA15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026D64-05FE-4E40-9196-572D2FC45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F67CB1-58D3-4DEB-80B2-CEA26601C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7E2A99-2300-4E96-AE1D-30773BCC7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244084-F86A-42AD-87C9-DED81ADA2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E69E0D-D577-4E08-A978-BE18ABDD5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7C88CC-210E-4DAD-AFB9-05DBB5029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44FC-A70C-46C8-A869-61EA4B6D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556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A2D3C1-8F5E-41AF-BD89-C02F80FCA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7CD700-348D-4AFD-A410-1B0BBDD4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7B9626-72A6-4168-95FA-085EAAEAE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9ADA73-1A23-440C-B88F-B90F8DCE8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F7E722-3E1F-407C-8259-502CE0D4A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DEFA2A-A964-414E-8CA0-A4CF1CA6E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C85519-0298-4361-897A-3BE9D8EAE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A178C8-A286-4A7B-A1EF-294DECB0F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CFEB6B-F906-404F-905D-E8DE1C5A9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9DE5AE-5371-44D7-83BD-17DDED7B0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4766760"/>
            <a:ext cx="208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5ECC6-423E-4313-9CD5-051A10233C1B}" type="datetime">
              <a:rPr b="0" lang="zh-CN" sz="1200" spc="-1" strike="noStrike">
                <a:solidFill>
                  <a:srgbClr val="595959"/>
                </a:solidFill>
                <a:latin typeface="Century 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4766760"/>
            <a:ext cx="284796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4766760"/>
            <a:ext cx="561960" cy="27468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8A829-C9AF-410C-A2E1-AC8E10CD7097}" type="slidenum">
              <a:rPr b="0" lang="zh-CN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4875120"/>
            <a:ext cx="84240" cy="6372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4875120"/>
            <a:ext cx="84240" cy="6372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Oval 6"/>
          <p:cNvSpPr/>
          <p:nvPr/>
        </p:nvSpPr>
        <p:spPr>
          <a:xfrm>
            <a:off x="8458200" y="4875120"/>
            <a:ext cx="84240" cy="6372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Oval 7"/>
          <p:cNvSpPr/>
          <p:nvPr/>
        </p:nvSpPr>
        <p:spPr>
          <a:xfrm>
            <a:off x="569880" y="4875120"/>
            <a:ext cx="84240" cy="6372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7" descr="http://pic61.nipic.com/file/20150302/5019179_102914248000_2.jpg"/>
          <p:cNvPicPr/>
          <p:nvPr/>
        </p:nvPicPr>
        <p:blipFill>
          <a:blip r:embed="rId3"/>
          <a:srcRect l="0" t="27575" r="0" b="27849"/>
          <a:stretch/>
        </p:blipFill>
        <p:spPr>
          <a:xfrm>
            <a:off x="0" y="0"/>
            <a:ext cx="9144000" cy="84312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28"/>
          </p:nvPr>
        </p:nvSpPr>
        <p:spPr>
          <a:xfrm>
            <a:off x="6362280" y="4766760"/>
            <a:ext cx="208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7CF51-7BDF-4D85-9C1C-6101218EE828}" type="datetime">
              <a:rPr b="0" lang="zh-CN" sz="1200" spc="-1" strike="noStrike">
                <a:solidFill>
                  <a:srgbClr val="595959"/>
                </a:solidFill>
                <a:latin typeface="Century 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ftr" idx="29"/>
          </p:nvPr>
        </p:nvSpPr>
        <p:spPr>
          <a:xfrm>
            <a:off x="658440" y="4766760"/>
            <a:ext cx="284796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sldNum" idx="30"/>
          </p:nvPr>
        </p:nvSpPr>
        <p:spPr>
          <a:xfrm>
            <a:off x="8543520" y="4766760"/>
            <a:ext cx="561960" cy="27468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9CF5E-ECB9-4D97-9EA5-D14F1E9FF704}" type="slidenum">
              <a:rPr b="0" lang="zh-CN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4875120"/>
            <a:ext cx="84240" cy="6372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4875120"/>
            <a:ext cx="84240" cy="6372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2943360"/>
            <a:ext cx="84240" cy="6336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2943360"/>
            <a:ext cx="84240" cy="6336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2943360"/>
            <a:ext cx="84240" cy="6336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4766760"/>
            <a:ext cx="208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753D9-3726-4574-BBE9-3502FA5AF2B4}" type="datetime">
              <a:rPr b="0" lang="zh-CN" sz="1200" spc="-1" strike="noStrike">
                <a:solidFill>
                  <a:srgbClr val="595959"/>
                </a:solidFill>
                <a:latin typeface="Century 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4766760"/>
            <a:ext cx="284796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4766760"/>
            <a:ext cx="561960" cy="27468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DCE4E-F088-4E3B-8C09-5591B02AAEE6}" type="slidenum">
              <a:rPr b="0" lang="zh-CN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Oval 6"/>
          <p:cNvSpPr/>
          <p:nvPr/>
        </p:nvSpPr>
        <p:spPr>
          <a:xfrm>
            <a:off x="8458200" y="4875120"/>
            <a:ext cx="84240" cy="6372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7"/>
          <p:cNvSpPr/>
          <p:nvPr/>
        </p:nvSpPr>
        <p:spPr>
          <a:xfrm>
            <a:off x="569880" y="4875120"/>
            <a:ext cx="84240" cy="6372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http://pic61.nipic.com/file/20150302/5019179_102914248000_2.jpg"/>
          <p:cNvPicPr/>
          <p:nvPr/>
        </p:nvPicPr>
        <p:blipFill>
          <a:blip r:embed="rId3"/>
          <a:srcRect l="0" t="27575" r="0" b="27849"/>
          <a:stretch/>
        </p:blipFill>
        <p:spPr>
          <a:xfrm>
            <a:off x="0" y="0"/>
            <a:ext cx="9144000" cy="8431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362280" y="4766760"/>
            <a:ext cx="208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CA959-9153-436B-BB5C-C37A819851F8}" type="datetime">
              <a:rPr b="0" lang="zh-CN" sz="1200" spc="-1" strike="noStrike">
                <a:solidFill>
                  <a:srgbClr val="595959"/>
                </a:solidFill>
                <a:latin typeface="Century 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658440" y="4766760"/>
            <a:ext cx="284796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543520" y="4766760"/>
            <a:ext cx="561960" cy="27468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EF137-767A-4927-8E36-172349C31DB8}" type="slidenum">
              <a:rPr b="0" lang="zh-CN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Oval 6"/>
          <p:cNvSpPr/>
          <p:nvPr/>
        </p:nvSpPr>
        <p:spPr>
          <a:xfrm>
            <a:off x="8458200" y="4875120"/>
            <a:ext cx="84240" cy="6372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7"/>
          <p:cNvSpPr/>
          <p:nvPr/>
        </p:nvSpPr>
        <p:spPr>
          <a:xfrm>
            <a:off x="569880" y="4875120"/>
            <a:ext cx="84240" cy="6372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7" descr="http://pic61.nipic.com/file/20150302/5019179_102914248000_2.jpg"/>
          <p:cNvPicPr/>
          <p:nvPr/>
        </p:nvPicPr>
        <p:blipFill>
          <a:blip r:embed="rId3"/>
          <a:srcRect l="0" t="27575" r="0" b="27849"/>
          <a:stretch/>
        </p:blipFill>
        <p:spPr>
          <a:xfrm>
            <a:off x="0" y="0"/>
            <a:ext cx="9144000" cy="8431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362280" y="4766760"/>
            <a:ext cx="208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41F2A-373B-4053-B10A-245A37FADF48}" type="datetime">
              <a:rPr b="0" lang="zh-CN" sz="1200" spc="-1" strike="noStrike">
                <a:solidFill>
                  <a:srgbClr val="595959"/>
                </a:solidFill>
                <a:latin typeface="Century 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58440" y="4766760"/>
            <a:ext cx="284796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543520" y="4766760"/>
            <a:ext cx="561960" cy="27468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83C48-4CF7-42AA-B9A3-28AB7AF92F7B}" type="slidenum">
              <a:rPr b="0" lang="zh-CN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Oval 6"/>
          <p:cNvSpPr/>
          <p:nvPr/>
        </p:nvSpPr>
        <p:spPr>
          <a:xfrm>
            <a:off x="8458200" y="4875120"/>
            <a:ext cx="84240" cy="6372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7"/>
          <p:cNvSpPr/>
          <p:nvPr/>
        </p:nvSpPr>
        <p:spPr>
          <a:xfrm>
            <a:off x="569880" y="4875120"/>
            <a:ext cx="84240" cy="6372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7" descr="http://pic61.nipic.com/file/20150302/5019179_102914248000_2.jpg"/>
          <p:cNvPicPr/>
          <p:nvPr/>
        </p:nvPicPr>
        <p:blipFill>
          <a:blip r:embed="rId3"/>
          <a:srcRect l="0" t="27575" r="0" b="27849"/>
          <a:stretch/>
        </p:blipFill>
        <p:spPr>
          <a:xfrm>
            <a:off x="0" y="0"/>
            <a:ext cx="9144000" cy="84312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362280" y="4766760"/>
            <a:ext cx="208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5104A-106D-49FB-AA25-C4634E148E2E}" type="datetime">
              <a:rPr b="0" lang="zh-CN" sz="1200" spc="-1" strike="noStrike">
                <a:solidFill>
                  <a:srgbClr val="595959"/>
                </a:solidFill>
                <a:latin typeface="Century 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658440" y="4766760"/>
            <a:ext cx="284796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8543520" y="4766760"/>
            <a:ext cx="561960" cy="27468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A5CDD-C11C-4516-8EB6-73361A730050}" type="slidenum">
              <a:rPr b="0" lang="zh-CN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Oval 6"/>
          <p:cNvSpPr/>
          <p:nvPr/>
        </p:nvSpPr>
        <p:spPr>
          <a:xfrm>
            <a:off x="8458200" y="4875120"/>
            <a:ext cx="84240" cy="6372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7"/>
          <p:cNvSpPr/>
          <p:nvPr/>
        </p:nvSpPr>
        <p:spPr>
          <a:xfrm>
            <a:off x="569880" y="4875120"/>
            <a:ext cx="84240" cy="6372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7" descr="http://pic61.nipic.com/file/20150302/5019179_102914248000_2.jpg"/>
          <p:cNvPicPr/>
          <p:nvPr/>
        </p:nvPicPr>
        <p:blipFill>
          <a:blip r:embed="rId3"/>
          <a:srcRect l="0" t="27575" r="0" b="27849"/>
          <a:stretch/>
        </p:blipFill>
        <p:spPr>
          <a:xfrm>
            <a:off x="0" y="0"/>
            <a:ext cx="9144000" cy="84312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362280" y="4766760"/>
            <a:ext cx="208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5DA2E-3931-4F3F-B8D2-D9D649624874}" type="datetime">
              <a:rPr b="0" lang="zh-CN" sz="1200" spc="-1" strike="noStrike">
                <a:solidFill>
                  <a:srgbClr val="595959"/>
                </a:solidFill>
                <a:latin typeface="Century 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658440" y="4766760"/>
            <a:ext cx="284796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8543520" y="4766760"/>
            <a:ext cx="561960" cy="27468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4841E-ABAF-458B-88E6-B9C6E90ACFCC}" type="slidenum">
              <a:rPr b="0" lang="zh-CN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Oval 6"/>
          <p:cNvSpPr/>
          <p:nvPr/>
        </p:nvSpPr>
        <p:spPr>
          <a:xfrm>
            <a:off x="8458200" y="4875120"/>
            <a:ext cx="84240" cy="6372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7"/>
          <p:cNvSpPr/>
          <p:nvPr/>
        </p:nvSpPr>
        <p:spPr>
          <a:xfrm>
            <a:off x="569880" y="4875120"/>
            <a:ext cx="84240" cy="6372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7" descr="http://pic61.nipic.com/file/20150302/5019179_102914248000_2.jpg"/>
          <p:cNvPicPr/>
          <p:nvPr/>
        </p:nvPicPr>
        <p:blipFill>
          <a:blip r:embed="rId3"/>
          <a:srcRect l="0" t="27575" r="0" b="27849"/>
          <a:stretch/>
        </p:blipFill>
        <p:spPr>
          <a:xfrm>
            <a:off x="0" y="0"/>
            <a:ext cx="9144000" cy="84312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9"/>
          </p:nvPr>
        </p:nvSpPr>
        <p:spPr>
          <a:xfrm>
            <a:off x="6362280" y="4766760"/>
            <a:ext cx="208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F7185-473B-4834-8AF6-B3E28B050BDB}" type="datetime">
              <a:rPr b="0" lang="zh-CN" sz="1200" spc="-1" strike="noStrike">
                <a:solidFill>
                  <a:srgbClr val="595959"/>
                </a:solidFill>
                <a:latin typeface="Century 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20"/>
          </p:nvPr>
        </p:nvSpPr>
        <p:spPr>
          <a:xfrm>
            <a:off x="658440" y="4766760"/>
            <a:ext cx="284796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21"/>
          </p:nvPr>
        </p:nvSpPr>
        <p:spPr>
          <a:xfrm>
            <a:off x="8543520" y="4766760"/>
            <a:ext cx="561960" cy="27468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56ACA-AE25-43F1-8E83-4417C1EE1F39}" type="slidenum">
              <a:rPr b="0" lang="zh-CN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Oval 6"/>
          <p:cNvSpPr/>
          <p:nvPr/>
        </p:nvSpPr>
        <p:spPr>
          <a:xfrm>
            <a:off x="8458200" y="4875120"/>
            <a:ext cx="84240" cy="6372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7"/>
          <p:cNvSpPr/>
          <p:nvPr/>
        </p:nvSpPr>
        <p:spPr>
          <a:xfrm>
            <a:off x="569880" y="4875120"/>
            <a:ext cx="84240" cy="6372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7" descr="http://pic61.nipic.com/file/20150302/5019179_102914248000_2.jpg"/>
          <p:cNvPicPr/>
          <p:nvPr/>
        </p:nvPicPr>
        <p:blipFill>
          <a:blip r:embed="rId3"/>
          <a:srcRect l="0" t="27575" r="0" b="27849"/>
          <a:stretch/>
        </p:blipFill>
        <p:spPr>
          <a:xfrm>
            <a:off x="0" y="0"/>
            <a:ext cx="9144000" cy="84312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6362280" y="4766760"/>
            <a:ext cx="208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5EEB7-B213-4097-A64E-AA58D4523370}" type="datetime">
              <a:rPr b="0" lang="zh-CN" sz="1200" spc="-1" strike="noStrike">
                <a:solidFill>
                  <a:srgbClr val="595959"/>
                </a:solidFill>
                <a:latin typeface="Century 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ftr" idx="23"/>
          </p:nvPr>
        </p:nvSpPr>
        <p:spPr>
          <a:xfrm>
            <a:off x="658440" y="4766760"/>
            <a:ext cx="284796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sldNum" idx="24"/>
          </p:nvPr>
        </p:nvSpPr>
        <p:spPr>
          <a:xfrm>
            <a:off x="8543520" y="4766760"/>
            <a:ext cx="561960" cy="27468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70F97-7DE5-4295-9956-3C8FB19EA87D}" type="slidenum">
              <a:rPr b="0" lang="zh-CN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Oval 6"/>
          <p:cNvSpPr/>
          <p:nvPr/>
        </p:nvSpPr>
        <p:spPr>
          <a:xfrm>
            <a:off x="8458200" y="4875120"/>
            <a:ext cx="84240" cy="6372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7"/>
          <p:cNvSpPr/>
          <p:nvPr/>
        </p:nvSpPr>
        <p:spPr>
          <a:xfrm>
            <a:off x="569880" y="4875120"/>
            <a:ext cx="84240" cy="6372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7" descr="http://pic61.nipic.com/file/20150302/5019179_102914248000_2.jpg"/>
          <p:cNvPicPr/>
          <p:nvPr/>
        </p:nvPicPr>
        <p:blipFill>
          <a:blip r:embed="rId3"/>
          <a:srcRect l="0" t="27575" r="0" b="27849"/>
          <a:stretch/>
        </p:blipFill>
        <p:spPr>
          <a:xfrm>
            <a:off x="0" y="0"/>
            <a:ext cx="9144000" cy="84312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5"/>
          </p:nvPr>
        </p:nvSpPr>
        <p:spPr>
          <a:xfrm>
            <a:off x="6362280" y="4766760"/>
            <a:ext cx="208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C5B1D-4A7E-4394-B2A7-F8CE339878B5}" type="datetime">
              <a:rPr b="0" lang="zh-CN" sz="1200" spc="-1" strike="noStrike">
                <a:solidFill>
                  <a:srgbClr val="595959"/>
                </a:solidFill>
                <a:latin typeface="Century 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6"/>
          </p:nvPr>
        </p:nvSpPr>
        <p:spPr>
          <a:xfrm>
            <a:off x="658440" y="4766760"/>
            <a:ext cx="284796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7"/>
          </p:nvPr>
        </p:nvSpPr>
        <p:spPr>
          <a:xfrm>
            <a:off x="8543520" y="4766760"/>
            <a:ext cx="561960" cy="27468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5F6EB-77BF-4AC5-BE6D-234F29371568}" type="slidenum">
              <a:rPr b="0" lang="zh-CN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11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1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1.jpeg"/><Relationship Id="rId3" Type="http://schemas.openxmlformats.org/officeDocument/2006/relationships/image" Target="../media/image10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1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2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1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图片 3" descr=""/>
          <p:cNvPicPr/>
          <p:nvPr/>
        </p:nvPicPr>
        <p:blipFill>
          <a:blip r:embed="rId1"/>
          <a:stretch/>
        </p:blipFill>
        <p:spPr>
          <a:xfrm>
            <a:off x="250920" y="1419120"/>
            <a:ext cx="4176720" cy="2691000"/>
          </a:xfrm>
          <a:prstGeom prst="rect">
            <a:avLst/>
          </a:prstGeom>
          <a:ln w="0">
            <a:noFill/>
          </a:ln>
        </p:spPr>
      </p:pic>
      <p:sp>
        <p:nvSpPr>
          <p:cNvPr id="449" name="TextBox 7"/>
          <p:cNvSpPr/>
          <p:nvPr/>
        </p:nvSpPr>
        <p:spPr>
          <a:xfrm>
            <a:off x="5076720" y="65556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幼圆"/>
                <a:ea typeface="幼圆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幼圆"/>
                <a:ea typeface="幼圆"/>
              </a:rPr>
              <a:t>丝绸之路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8"/>
          <p:cNvSpPr/>
          <p:nvPr/>
        </p:nvSpPr>
        <p:spPr>
          <a:xfrm>
            <a:off x="650880" y="65556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幼圆"/>
                <a:ea typeface="幼圆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幼圆"/>
                <a:ea typeface="幼圆"/>
              </a:rPr>
              <a:t>一带一路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图片 1" descr=""/>
          <p:cNvPicPr/>
          <p:nvPr/>
        </p:nvPicPr>
        <p:blipFill>
          <a:blip r:embed="rId2"/>
          <a:stretch/>
        </p:blipFill>
        <p:spPr>
          <a:xfrm>
            <a:off x="4602240" y="1419120"/>
            <a:ext cx="4217760" cy="2648160"/>
          </a:xfrm>
          <a:prstGeom prst="rect">
            <a:avLst/>
          </a:prstGeom>
          <a:ln w="0">
            <a:noFill/>
          </a:ln>
        </p:spPr>
      </p:pic>
      <p:sp>
        <p:nvSpPr>
          <p:cNvPr id="452" name="任意多边形 5"/>
          <p:cNvSpPr/>
          <p:nvPr/>
        </p:nvSpPr>
        <p:spPr>
          <a:xfrm>
            <a:off x="4754520" y="2440080"/>
            <a:ext cx="3941640" cy="1278000"/>
          </a:xfrm>
          <a:custGeom>
            <a:avLst/>
            <a:gdLst/>
            <a:ahLst/>
            <a:rect l="l" t="t" r="r" b="b"/>
            <a:pathLst>
              <a:path w="6527173" h="2029216">
                <a:moveTo>
                  <a:pt x="6527173" y="2029216"/>
                </a:moveTo>
                <a:cubicBezTo>
                  <a:pt x="6438647" y="2011511"/>
                  <a:pt x="6484743" y="2023423"/>
                  <a:pt x="6389387" y="1991638"/>
                </a:cubicBezTo>
                <a:lnTo>
                  <a:pt x="6351808" y="1979112"/>
                </a:lnTo>
                <a:cubicBezTo>
                  <a:pt x="6312108" y="1919562"/>
                  <a:pt x="6331517" y="1955816"/>
                  <a:pt x="6301704" y="1866378"/>
                </a:cubicBezTo>
                <a:cubicBezTo>
                  <a:pt x="6297529" y="1853852"/>
                  <a:pt x="6296502" y="1839786"/>
                  <a:pt x="6289178" y="1828800"/>
                </a:cubicBezTo>
                <a:lnTo>
                  <a:pt x="6264126" y="1791222"/>
                </a:lnTo>
                <a:cubicBezTo>
                  <a:pt x="6253097" y="1758134"/>
                  <a:pt x="6233800" y="1689255"/>
                  <a:pt x="6201496" y="1678487"/>
                </a:cubicBezTo>
                <a:lnTo>
                  <a:pt x="6163918" y="1665961"/>
                </a:lnTo>
                <a:cubicBezTo>
                  <a:pt x="6037720" y="1697511"/>
                  <a:pt x="6217487" y="1654945"/>
                  <a:pt x="6001080" y="1691013"/>
                </a:cubicBezTo>
                <a:cubicBezTo>
                  <a:pt x="5988056" y="1693184"/>
                  <a:pt x="5976526" y="1701368"/>
                  <a:pt x="5963502" y="1703539"/>
                </a:cubicBezTo>
                <a:cubicBezTo>
                  <a:pt x="5926207" y="1709755"/>
                  <a:pt x="5888345" y="1711890"/>
                  <a:pt x="5850767" y="1716065"/>
                </a:cubicBezTo>
                <a:cubicBezTo>
                  <a:pt x="5838241" y="1720240"/>
                  <a:pt x="5826213" y="1730762"/>
                  <a:pt x="5813189" y="1728591"/>
                </a:cubicBezTo>
                <a:cubicBezTo>
                  <a:pt x="5798339" y="1726116"/>
                  <a:pt x="5786256" y="1714184"/>
                  <a:pt x="5775611" y="1703539"/>
                </a:cubicBezTo>
                <a:cubicBezTo>
                  <a:pt x="5724624" y="1652552"/>
                  <a:pt x="5775119" y="1665223"/>
                  <a:pt x="5725507" y="1590805"/>
                </a:cubicBezTo>
                <a:cubicBezTo>
                  <a:pt x="5717156" y="1578279"/>
                  <a:pt x="5707188" y="1566692"/>
                  <a:pt x="5700455" y="1553227"/>
                </a:cubicBezTo>
                <a:cubicBezTo>
                  <a:pt x="5694550" y="1541417"/>
                  <a:pt x="5697265" y="1524985"/>
                  <a:pt x="5687929" y="1515649"/>
                </a:cubicBezTo>
                <a:cubicBezTo>
                  <a:pt x="5678593" y="1506313"/>
                  <a:pt x="5662877" y="1507298"/>
                  <a:pt x="5650351" y="1503123"/>
                </a:cubicBezTo>
                <a:cubicBezTo>
                  <a:pt x="5646176" y="1490597"/>
                  <a:pt x="5646073" y="1475855"/>
                  <a:pt x="5637825" y="1465545"/>
                </a:cubicBezTo>
                <a:cubicBezTo>
                  <a:pt x="5628421" y="1453790"/>
                  <a:pt x="5605008" y="1454775"/>
                  <a:pt x="5600247" y="1440493"/>
                </a:cubicBezTo>
                <a:cubicBezTo>
                  <a:pt x="5586978" y="1400684"/>
                  <a:pt x="5595454" y="1356475"/>
                  <a:pt x="5587721" y="1315232"/>
                </a:cubicBezTo>
                <a:cubicBezTo>
                  <a:pt x="5582854" y="1289277"/>
                  <a:pt x="5571020" y="1265128"/>
                  <a:pt x="5562669" y="1240076"/>
                </a:cubicBezTo>
                <a:lnTo>
                  <a:pt x="5550143" y="1202498"/>
                </a:lnTo>
                <a:cubicBezTo>
                  <a:pt x="5545968" y="1189972"/>
                  <a:pt x="5548603" y="1172244"/>
                  <a:pt x="5537617" y="1164920"/>
                </a:cubicBezTo>
                <a:lnTo>
                  <a:pt x="5500039" y="1139868"/>
                </a:lnTo>
                <a:cubicBezTo>
                  <a:pt x="5422932" y="1024208"/>
                  <a:pt x="5521329" y="1166480"/>
                  <a:pt x="5449934" y="1077238"/>
                </a:cubicBezTo>
                <a:cubicBezTo>
                  <a:pt x="5412735" y="1030740"/>
                  <a:pt x="5428300" y="1015747"/>
                  <a:pt x="5349726" y="989556"/>
                </a:cubicBezTo>
                <a:cubicBezTo>
                  <a:pt x="5324674" y="981205"/>
                  <a:pt x="5296542" y="979152"/>
                  <a:pt x="5274570" y="964504"/>
                </a:cubicBezTo>
                <a:cubicBezTo>
                  <a:pt x="5262044" y="956153"/>
                  <a:pt x="5248557" y="949090"/>
                  <a:pt x="5236992" y="939452"/>
                </a:cubicBezTo>
                <a:cubicBezTo>
                  <a:pt x="5223383" y="928111"/>
                  <a:pt x="5214153" y="911700"/>
                  <a:pt x="5199414" y="901874"/>
                </a:cubicBezTo>
                <a:cubicBezTo>
                  <a:pt x="5188428" y="894550"/>
                  <a:pt x="5174362" y="893523"/>
                  <a:pt x="5161836" y="889348"/>
                </a:cubicBezTo>
                <a:cubicBezTo>
                  <a:pt x="5126809" y="854320"/>
                  <a:pt x="5073911" y="793233"/>
                  <a:pt x="5024050" y="776613"/>
                </a:cubicBezTo>
                <a:lnTo>
                  <a:pt x="4986471" y="764087"/>
                </a:lnTo>
                <a:cubicBezTo>
                  <a:pt x="4961419" y="747386"/>
                  <a:pt x="4928016" y="739035"/>
                  <a:pt x="4911315" y="713983"/>
                </a:cubicBezTo>
                <a:cubicBezTo>
                  <a:pt x="4902964" y="701457"/>
                  <a:pt x="4898789" y="684756"/>
                  <a:pt x="4886263" y="676405"/>
                </a:cubicBezTo>
                <a:cubicBezTo>
                  <a:pt x="4871939" y="666856"/>
                  <a:pt x="4852860" y="668054"/>
                  <a:pt x="4836159" y="663879"/>
                </a:cubicBezTo>
                <a:cubicBezTo>
                  <a:pt x="4790230" y="594986"/>
                  <a:pt x="4836159" y="653441"/>
                  <a:pt x="4773529" y="601249"/>
                </a:cubicBezTo>
                <a:cubicBezTo>
                  <a:pt x="4730298" y="565223"/>
                  <a:pt x="4724112" y="534673"/>
                  <a:pt x="4660795" y="513567"/>
                </a:cubicBezTo>
                <a:cubicBezTo>
                  <a:pt x="4571357" y="483754"/>
                  <a:pt x="4607611" y="503163"/>
                  <a:pt x="4548061" y="463463"/>
                </a:cubicBezTo>
                <a:cubicBezTo>
                  <a:pt x="4527184" y="467638"/>
                  <a:pt x="4506085" y="470825"/>
                  <a:pt x="4485430" y="475989"/>
                </a:cubicBezTo>
                <a:cubicBezTo>
                  <a:pt x="4472621" y="479191"/>
                  <a:pt x="4460548" y="484888"/>
                  <a:pt x="4447852" y="488515"/>
                </a:cubicBezTo>
                <a:cubicBezTo>
                  <a:pt x="4315337" y="526376"/>
                  <a:pt x="4501195" y="466559"/>
                  <a:pt x="4322592" y="526093"/>
                </a:cubicBezTo>
                <a:lnTo>
                  <a:pt x="4285014" y="538619"/>
                </a:lnTo>
                <a:lnTo>
                  <a:pt x="4247436" y="551145"/>
                </a:lnTo>
                <a:cubicBezTo>
                  <a:pt x="3976832" y="536903"/>
                  <a:pt x="3893593" y="526007"/>
                  <a:pt x="3583556" y="551145"/>
                </a:cubicBezTo>
                <a:cubicBezTo>
                  <a:pt x="3568551" y="552362"/>
                  <a:pt x="3559443" y="569464"/>
                  <a:pt x="3545978" y="576197"/>
                </a:cubicBezTo>
                <a:cubicBezTo>
                  <a:pt x="3534168" y="582102"/>
                  <a:pt x="3520536" y="583522"/>
                  <a:pt x="3508400" y="588723"/>
                </a:cubicBezTo>
                <a:cubicBezTo>
                  <a:pt x="3491237" y="596079"/>
                  <a:pt x="3475459" y="606419"/>
                  <a:pt x="3458296" y="613775"/>
                </a:cubicBezTo>
                <a:cubicBezTo>
                  <a:pt x="3446160" y="618976"/>
                  <a:pt x="3432260" y="619889"/>
                  <a:pt x="3420718" y="626301"/>
                </a:cubicBezTo>
                <a:cubicBezTo>
                  <a:pt x="3394398" y="640923"/>
                  <a:pt x="3345562" y="676405"/>
                  <a:pt x="3345562" y="676405"/>
                </a:cubicBezTo>
                <a:cubicBezTo>
                  <a:pt x="3324121" y="740727"/>
                  <a:pt x="3317882" y="768640"/>
                  <a:pt x="3345562" y="588723"/>
                </a:cubicBezTo>
                <a:cubicBezTo>
                  <a:pt x="3347570" y="575673"/>
                  <a:pt x="3354886" y="563954"/>
                  <a:pt x="3358088" y="551145"/>
                </a:cubicBezTo>
                <a:cubicBezTo>
                  <a:pt x="3363252" y="530491"/>
                  <a:pt x="3366439" y="509392"/>
                  <a:pt x="3370614" y="488515"/>
                </a:cubicBezTo>
                <a:cubicBezTo>
                  <a:pt x="3366439" y="450937"/>
                  <a:pt x="3364304" y="413075"/>
                  <a:pt x="3358088" y="375780"/>
                </a:cubicBezTo>
                <a:cubicBezTo>
                  <a:pt x="3355917" y="362756"/>
                  <a:pt x="3347020" y="351325"/>
                  <a:pt x="3345562" y="338202"/>
                </a:cubicBezTo>
                <a:cubicBezTo>
                  <a:pt x="3338630" y="275817"/>
                  <a:pt x="3338474" y="212845"/>
                  <a:pt x="3333036" y="150312"/>
                </a:cubicBezTo>
                <a:cubicBezTo>
                  <a:pt x="3330120" y="116776"/>
                  <a:pt x="3324685" y="83507"/>
                  <a:pt x="3320510" y="50104"/>
                </a:cubicBezTo>
                <a:cubicBezTo>
                  <a:pt x="3307984" y="54279"/>
                  <a:pt x="3293242" y="54382"/>
                  <a:pt x="3282932" y="62630"/>
                </a:cubicBezTo>
                <a:cubicBezTo>
                  <a:pt x="3215084" y="116909"/>
                  <a:pt x="3304852" y="87683"/>
                  <a:pt x="3220302" y="125260"/>
                </a:cubicBezTo>
                <a:cubicBezTo>
                  <a:pt x="3196171" y="135985"/>
                  <a:pt x="3170197" y="141961"/>
                  <a:pt x="3145145" y="150312"/>
                </a:cubicBezTo>
                <a:lnTo>
                  <a:pt x="3107567" y="162838"/>
                </a:lnTo>
                <a:cubicBezTo>
                  <a:pt x="3050139" y="248980"/>
                  <a:pt x="3086027" y="247515"/>
                  <a:pt x="3019885" y="225468"/>
                </a:cubicBezTo>
                <a:cubicBezTo>
                  <a:pt x="3011534" y="212942"/>
                  <a:pt x="3007599" y="195869"/>
                  <a:pt x="2994833" y="187890"/>
                </a:cubicBezTo>
                <a:cubicBezTo>
                  <a:pt x="2972440" y="173894"/>
                  <a:pt x="2941649" y="177486"/>
                  <a:pt x="2919677" y="162838"/>
                </a:cubicBezTo>
                <a:cubicBezTo>
                  <a:pt x="2860127" y="123138"/>
                  <a:pt x="2896381" y="142547"/>
                  <a:pt x="2806943" y="112734"/>
                </a:cubicBezTo>
                <a:lnTo>
                  <a:pt x="2769365" y="100208"/>
                </a:lnTo>
                <a:lnTo>
                  <a:pt x="2731787" y="87682"/>
                </a:lnTo>
                <a:cubicBezTo>
                  <a:pt x="2688061" y="43958"/>
                  <a:pt x="2717938" y="66365"/>
                  <a:pt x="2631578" y="37578"/>
                </a:cubicBezTo>
                <a:lnTo>
                  <a:pt x="2594000" y="25052"/>
                </a:lnTo>
                <a:cubicBezTo>
                  <a:pt x="2581474" y="20877"/>
                  <a:pt x="2569369" y="15115"/>
                  <a:pt x="2556422" y="12526"/>
                </a:cubicBezTo>
                <a:lnTo>
                  <a:pt x="2493792" y="0"/>
                </a:lnTo>
                <a:cubicBezTo>
                  <a:pt x="2376882" y="4175"/>
                  <a:pt x="2259804" y="4994"/>
                  <a:pt x="2143063" y="12526"/>
                </a:cubicBezTo>
                <a:cubicBezTo>
                  <a:pt x="2096221" y="15548"/>
                  <a:pt x="2072461" y="61112"/>
                  <a:pt x="2030329" y="75156"/>
                </a:cubicBezTo>
                <a:cubicBezTo>
                  <a:pt x="2002269" y="84509"/>
                  <a:pt x="1971857" y="95714"/>
                  <a:pt x="1942647" y="100208"/>
                </a:cubicBezTo>
                <a:cubicBezTo>
                  <a:pt x="1905277" y="105957"/>
                  <a:pt x="1867491" y="108559"/>
                  <a:pt x="1829913" y="112734"/>
                </a:cubicBezTo>
                <a:cubicBezTo>
                  <a:pt x="1804861" y="129435"/>
                  <a:pt x="1771457" y="137786"/>
                  <a:pt x="1754756" y="162838"/>
                </a:cubicBezTo>
                <a:cubicBezTo>
                  <a:pt x="1721353" y="212942"/>
                  <a:pt x="1742230" y="192065"/>
                  <a:pt x="1692126" y="225468"/>
                </a:cubicBezTo>
                <a:cubicBezTo>
                  <a:pt x="1683775" y="237994"/>
                  <a:pt x="1678829" y="253642"/>
                  <a:pt x="1667074" y="263046"/>
                </a:cubicBezTo>
                <a:cubicBezTo>
                  <a:pt x="1656764" y="271294"/>
                  <a:pt x="1641306" y="269667"/>
                  <a:pt x="1629496" y="275572"/>
                </a:cubicBezTo>
                <a:cubicBezTo>
                  <a:pt x="1616031" y="282305"/>
                  <a:pt x="1603483" y="290986"/>
                  <a:pt x="1591918" y="300624"/>
                </a:cubicBezTo>
                <a:cubicBezTo>
                  <a:pt x="1578309" y="311965"/>
                  <a:pt x="1568323" y="327326"/>
                  <a:pt x="1554340" y="338202"/>
                </a:cubicBezTo>
                <a:cubicBezTo>
                  <a:pt x="1489733" y="388452"/>
                  <a:pt x="1498304" y="381933"/>
                  <a:pt x="1441606" y="400832"/>
                </a:cubicBezTo>
                <a:cubicBezTo>
                  <a:pt x="1433255" y="409183"/>
                  <a:pt x="1425776" y="418507"/>
                  <a:pt x="1416554" y="425885"/>
                </a:cubicBezTo>
                <a:cubicBezTo>
                  <a:pt x="1404799" y="435290"/>
                  <a:pt x="1389621" y="440292"/>
                  <a:pt x="1378976" y="450937"/>
                </a:cubicBezTo>
                <a:cubicBezTo>
                  <a:pt x="1368331" y="461582"/>
                  <a:pt x="1366690" y="480536"/>
                  <a:pt x="1353924" y="488515"/>
                </a:cubicBezTo>
                <a:cubicBezTo>
                  <a:pt x="1331530" y="502511"/>
                  <a:pt x="1303819" y="505216"/>
                  <a:pt x="1278767" y="513567"/>
                </a:cubicBezTo>
                <a:cubicBezTo>
                  <a:pt x="1266241" y="517742"/>
                  <a:pt x="1252175" y="518769"/>
                  <a:pt x="1241189" y="526093"/>
                </a:cubicBezTo>
                <a:cubicBezTo>
                  <a:pt x="1228663" y="534444"/>
                  <a:pt x="1217368" y="545031"/>
                  <a:pt x="1203611" y="551145"/>
                </a:cubicBezTo>
                <a:cubicBezTo>
                  <a:pt x="1129594" y="584041"/>
                  <a:pt x="1101713" y="579168"/>
                  <a:pt x="1015721" y="588723"/>
                </a:cubicBezTo>
                <a:cubicBezTo>
                  <a:pt x="924233" y="619219"/>
                  <a:pt x="966184" y="620180"/>
                  <a:pt x="890461" y="601249"/>
                </a:cubicBezTo>
                <a:cubicBezTo>
                  <a:pt x="870306" y="587813"/>
                  <a:pt x="814930" y="541375"/>
                  <a:pt x="777726" y="538619"/>
                </a:cubicBezTo>
                <a:cubicBezTo>
                  <a:pt x="677705" y="531210"/>
                  <a:pt x="577310" y="530268"/>
                  <a:pt x="477102" y="526093"/>
                </a:cubicBezTo>
                <a:cubicBezTo>
                  <a:pt x="406121" y="530268"/>
                  <a:pt x="334665" y="529423"/>
                  <a:pt x="264159" y="538619"/>
                </a:cubicBezTo>
                <a:cubicBezTo>
                  <a:pt x="237974" y="542034"/>
                  <a:pt x="214055" y="555320"/>
                  <a:pt x="189003" y="563671"/>
                </a:cubicBezTo>
                <a:cubicBezTo>
                  <a:pt x="122861" y="585718"/>
                  <a:pt x="162411" y="568873"/>
                  <a:pt x="76269" y="626301"/>
                </a:cubicBezTo>
                <a:cubicBezTo>
                  <a:pt x="44443" y="647519"/>
                  <a:pt x="25225" y="656782"/>
                  <a:pt x="1113" y="688931"/>
                </a:cubicBezTo>
                <a:cubicBezTo>
                  <a:pt x="-1392" y="692271"/>
                  <a:pt x="1113" y="697282"/>
                  <a:pt x="1113" y="701457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任意多边形 9"/>
          <p:cNvSpPr/>
          <p:nvPr/>
        </p:nvSpPr>
        <p:spPr>
          <a:xfrm>
            <a:off x="4786200" y="2851200"/>
            <a:ext cx="2556000" cy="606240"/>
          </a:xfrm>
          <a:custGeom>
            <a:avLst/>
            <a:gdLst/>
            <a:ahLst/>
            <a:rect l="l" t="t" r="r" b="b"/>
            <a:pathLst>
              <a:path w="4233797" h="964504">
                <a:moveTo>
                  <a:pt x="4233797" y="0"/>
                </a:moveTo>
                <a:cubicBezTo>
                  <a:pt x="4209976" y="4764"/>
                  <a:pt x="4159267" y="12213"/>
                  <a:pt x="4133589" y="25052"/>
                </a:cubicBezTo>
                <a:cubicBezTo>
                  <a:pt x="4120124" y="31785"/>
                  <a:pt x="4109768" y="43990"/>
                  <a:pt x="4096011" y="50104"/>
                </a:cubicBezTo>
                <a:cubicBezTo>
                  <a:pt x="4071880" y="60829"/>
                  <a:pt x="4045906" y="66805"/>
                  <a:pt x="4020854" y="75156"/>
                </a:cubicBezTo>
                <a:lnTo>
                  <a:pt x="3945698" y="100208"/>
                </a:lnTo>
                <a:cubicBezTo>
                  <a:pt x="3913763" y="110853"/>
                  <a:pt x="3878857" y="108285"/>
                  <a:pt x="3845490" y="112734"/>
                </a:cubicBezTo>
                <a:lnTo>
                  <a:pt x="3757808" y="125260"/>
                </a:lnTo>
                <a:cubicBezTo>
                  <a:pt x="3732756" y="133611"/>
                  <a:pt x="3708271" y="143907"/>
                  <a:pt x="3682652" y="150312"/>
                </a:cubicBezTo>
                <a:cubicBezTo>
                  <a:pt x="3665951" y="154487"/>
                  <a:pt x="3649037" y="157891"/>
                  <a:pt x="3632548" y="162838"/>
                </a:cubicBezTo>
                <a:cubicBezTo>
                  <a:pt x="3607254" y="170426"/>
                  <a:pt x="3557391" y="187890"/>
                  <a:pt x="3557391" y="187890"/>
                </a:cubicBezTo>
                <a:cubicBezTo>
                  <a:pt x="3544865" y="196241"/>
                  <a:pt x="3533278" y="206209"/>
                  <a:pt x="3519813" y="212942"/>
                </a:cubicBezTo>
                <a:cubicBezTo>
                  <a:pt x="3508003" y="218847"/>
                  <a:pt x="3493777" y="219057"/>
                  <a:pt x="3482235" y="225469"/>
                </a:cubicBezTo>
                <a:lnTo>
                  <a:pt x="3369501" y="300625"/>
                </a:lnTo>
                <a:cubicBezTo>
                  <a:pt x="3358515" y="307949"/>
                  <a:pt x="3344449" y="308976"/>
                  <a:pt x="3331923" y="313151"/>
                </a:cubicBezTo>
                <a:cubicBezTo>
                  <a:pt x="3323572" y="325677"/>
                  <a:pt x="3318626" y="341325"/>
                  <a:pt x="3306871" y="350729"/>
                </a:cubicBezTo>
                <a:cubicBezTo>
                  <a:pt x="3296561" y="358977"/>
                  <a:pt x="3278629" y="353919"/>
                  <a:pt x="3269293" y="363255"/>
                </a:cubicBezTo>
                <a:cubicBezTo>
                  <a:pt x="3259957" y="372591"/>
                  <a:pt x="3263179" y="389291"/>
                  <a:pt x="3256767" y="400833"/>
                </a:cubicBezTo>
                <a:cubicBezTo>
                  <a:pt x="3242145" y="427153"/>
                  <a:pt x="3223364" y="450937"/>
                  <a:pt x="3206663" y="475989"/>
                </a:cubicBezTo>
                <a:lnTo>
                  <a:pt x="3181611" y="513567"/>
                </a:lnTo>
                <a:cubicBezTo>
                  <a:pt x="3173260" y="526093"/>
                  <a:pt x="3156559" y="530268"/>
                  <a:pt x="3144033" y="538619"/>
                </a:cubicBezTo>
                <a:cubicBezTo>
                  <a:pt x="3097744" y="608053"/>
                  <a:pt x="3145466" y="553132"/>
                  <a:pt x="3081402" y="588723"/>
                </a:cubicBezTo>
                <a:cubicBezTo>
                  <a:pt x="3055082" y="603345"/>
                  <a:pt x="3006246" y="638827"/>
                  <a:pt x="3006246" y="638827"/>
                </a:cubicBezTo>
                <a:cubicBezTo>
                  <a:pt x="2959958" y="708261"/>
                  <a:pt x="3007678" y="653342"/>
                  <a:pt x="2943616" y="688932"/>
                </a:cubicBezTo>
                <a:cubicBezTo>
                  <a:pt x="2917296" y="703554"/>
                  <a:pt x="2893512" y="722335"/>
                  <a:pt x="2868460" y="739036"/>
                </a:cubicBezTo>
                <a:cubicBezTo>
                  <a:pt x="2857474" y="746360"/>
                  <a:pt x="2843578" y="747935"/>
                  <a:pt x="2830882" y="751562"/>
                </a:cubicBezTo>
                <a:cubicBezTo>
                  <a:pt x="2771822" y="768436"/>
                  <a:pt x="2764058" y="766477"/>
                  <a:pt x="2693096" y="776614"/>
                </a:cubicBezTo>
                <a:cubicBezTo>
                  <a:pt x="2514483" y="836151"/>
                  <a:pt x="2700356" y="776329"/>
                  <a:pt x="2567835" y="814192"/>
                </a:cubicBezTo>
                <a:cubicBezTo>
                  <a:pt x="2555139" y="817819"/>
                  <a:pt x="2542953" y="823091"/>
                  <a:pt x="2530257" y="826718"/>
                </a:cubicBezTo>
                <a:cubicBezTo>
                  <a:pt x="2513704" y="831447"/>
                  <a:pt x="2496642" y="834297"/>
                  <a:pt x="2480153" y="839244"/>
                </a:cubicBezTo>
                <a:lnTo>
                  <a:pt x="2367419" y="876822"/>
                </a:lnTo>
                <a:lnTo>
                  <a:pt x="2329841" y="889348"/>
                </a:lnTo>
                <a:cubicBezTo>
                  <a:pt x="2317315" y="897699"/>
                  <a:pt x="2306020" y="908286"/>
                  <a:pt x="2292263" y="914400"/>
                </a:cubicBezTo>
                <a:cubicBezTo>
                  <a:pt x="2218754" y="947070"/>
                  <a:pt x="2200500" y="940035"/>
                  <a:pt x="2116898" y="951978"/>
                </a:cubicBezTo>
                <a:cubicBezTo>
                  <a:pt x="2091756" y="955570"/>
                  <a:pt x="2066794" y="960329"/>
                  <a:pt x="2041742" y="964504"/>
                </a:cubicBezTo>
                <a:cubicBezTo>
                  <a:pt x="1983287" y="960329"/>
                  <a:pt x="1924580" y="958825"/>
                  <a:pt x="1866378" y="951978"/>
                </a:cubicBezTo>
                <a:cubicBezTo>
                  <a:pt x="1853265" y="950435"/>
                  <a:pt x="1839110" y="947700"/>
                  <a:pt x="1828800" y="939452"/>
                </a:cubicBezTo>
                <a:cubicBezTo>
                  <a:pt x="1817045" y="930048"/>
                  <a:pt x="1814393" y="912519"/>
                  <a:pt x="1803748" y="901874"/>
                </a:cubicBezTo>
                <a:cubicBezTo>
                  <a:pt x="1793103" y="891229"/>
                  <a:pt x="1779927" y="882936"/>
                  <a:pt x="1766170" y="876822"/>
                </a:cubicBezTo>
                <a:cubicBezTo>
                  <a:pt x="1742039" y="866097"/>
                  <a:pt x="1691013" y="851770"/>
                  <a:pt x="1691013" y="851770"/>
                </a:cubicBezTo>
                <a:cubicBezTo>
                  <a:pt x="1678487" y="843419"/>
                  <a:pt x="1665000" y="836356"/>
                  <a:pt x="1653435" y="826718"/>
                </a:cubicBezTo>
                <a:cubicBezTo>
                  <a:pt x="1639826" y="815377"/>
                  <a:pt x="1631342" y="797743"/>
                  <a:pt x="1615857" y="789140"/>
                </a:cubicBezTo>
                <a:cubicBezTo>
                  <a:pt x="1592773" y="776316"/>
                  <a:pt x="1540701" y="764088"/>
                  <a:pt x="1540701" y="764088"/>
                </a:cubicBezTo>
                <a:cubicBezTo>
                  <a:pt x="1433008" y="692292"/>
                  <a:pt x="1569265" y="778370"/>
                  <a:pt x="1465545" y="726510"/>
                </a:cubicBezTo>
                <a:cubicBezTo>
                  <a:pt x="1452080" y="719777"/>
                  <a:pt x="1440493" y="709809"/>
                  <a:pt x="1427967" y="701458"/>
                </a:cubicBezTo>
                <a:cubicBezTo>
                  <a:pt x="1400638" y="619468"/>
                  <a:pt x="1438595" y="699939"/>
                  <a:pt x="1377863" y="651353"/>
                </a:cubicBezTo>
                <a:cubicBezTo>
                  <a:pt x="1366108" y="641949"/>
                  <a:pt x="1362449" y="625340"/>
                  <a:pt x="1352811" y="613775"/>
                </a:cubicBezTo>
                <a:cubicBezTo>
                  <a:pt x="1341470" y="600166"/>
                  <a:pt x="1327759" y="588723"/>
                  <a:pt x="1315233" y="576197"/>
                </a:cubicBezTo>
                <a:cubicBezTo>
                  <a:pt x="1311058" y="563671"/>
                  <a:pt x="1304250" y="551732"/>
                  <a:pt x="1302707" y="538619"/>
                </a:cubicBezTo>
                <a:cubicBezTo>
                  <a:pt x="1296738" y="487886"/>
                  <a:pt x="1330130" y="377203"/>
                  <a:pt x="1265128" y="338203"/>
                </a:cubicBezTo>
                <a:cubicBezTo>
                  <a:pt x="1253806" y="331410"/>
                  <a:pt x="1240076" y="329852"/>
                  <a:pt x="1227550" y="325677"/>
                </a:cubicBezTo>
                <a:cubicBezTo>
                  <a:pt x="1064022" y="346118"/>
                  <a:pt x="1183646" y="327083"/>
                  <a:pt x="1077238" y="350729"/>
                </a:cubicBezTo>
                <a:cubicBezTo>
                  <a:pt x="1056455" y="355347"/>
                  <a:pt x="1035148" y="357653"/>
                  <a:pt x="1014608" y="363255"/>
                </a:cubicBezTo>
                <a:cubicBezTo>
                  <a:pt x="989131" y="370203"/>
                  <a:pt x="939452" y="388307"/>
                  <a:pt x="939452" y="388307"/>
                </a:cubicBezTo>
                <a:lnTo>
                  <a:pt x="826717" y="463463"/>
                </a:lnTo>
                <a:cubicBezTo>
                  <a:pt x="815731" y="470787"/>
                  <a:pt x="801665" y="471814"/>
                  <a:pt x="789139" y="475989"/>
                </a:cubicBezTo>
                <a:cubicBezTo>
                  <a:pt x="776613" y="484340"/>
                  <a:pt x="765026" y="494308"/>
                  <a:pt x="751561" y="501041"/>
                </a:cubicBezTo>
                <a:cubicBezTo>
                  <a:pt x="739751" y="506946"/>
                  <a:pt x="725525" y="507155"/>
                  <a:pt x="713983" y="513567"/>
                </a:cubicBezTo>
                <a:cubicBezTo>
                  <a:pt x="687663" y="528189"/>
                  <a:pt x="663879" y="546970"/>
                  <a:pt x="638827" y="563671"/>
                </a:cubicBezTo>
                <a:cubicBezTo>
                  <a:pt x="626301" y="572022"/>
                  <a:pt x="615854" y="585072"/>
                  <a:pt x="601249" y="588723"/>
                </a:cubicBezTo>
                <a:lnTo>
                  <a:pt x="551145" y="601249"/>
                </a:lnTo>
                <a:cubicBezTo>
                  <a:pt x="538619" y="609600"/>
                  <a:pt x="527324" y="620187"/>
                  <a:pt x="513567" y="626301"/>
                </a:cubicBezTo>
                <a:cubicBezTo>
                  <a:pt x="489436" y="637026"/>
                  <a:pt x="438411" y="651353"/>
                  <a:pt x="438411" y="651353"/>
                </a:cubicBezTo>
                <a:cubicBezTo>
                  <a:pt x="430060" y="659704"/>
                  <a:pt x="423922" y="671124"/>
                  <a:pt x="413359" y="676406"/>
                </a:cubicBezTo>
                <a:cubicBezTo>
                  <a:pt x="389740" y="688216"/>
                  <a:pt x="338202" y="701458"/>
                  <a:pt x="338202" y="701458"/>
                </a:cubicBezTo>
                <a:cubicBezTo>
                  <a:pt x="325676" y="709809"/>
                  <a:pt x="314381" y="720396"/>
                  <a:pt x="300624" y="726510"/>
                </a:cubicBezTo>
                <a:cubicBezTo>
                  <a:pt x="276493" y="737235"/>
                  <a:pt x="250520" y="743211"/>
                  <a:pt x="225468" y="751562"/>
                </a:cubicBezTo>
                <a:lnTo>
                  <a:pt x="187890" y="764088"/>
                </a:lnTo>
                <a:cubicBezTo>
                  <a:pt x="170704" y="769817"/>
                  <a:pt x="36633" y="786566"/>
                  <a:pt x="25052" y="789140"/>
                </a:cubicBezTo>
                <a:cubicBezTo>
                  <a:pt x="15938" y="791165"/>
                  <a:pt x="8351" y="797491"/>
                  <a:pt x="0" y="801666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任意多边形 10"/>
          <p:cNvSpPr/>
          <p:nvPr/>
        </p:nvSpPr>
        <p:spPr>
          <a:xfrm>
            <a:off x="4808520" y="1967040"/>
            <a:ext cx="2557440" cy="796680"/>
          </a:xfrm>
          <a:custGeom>
            <a:avLst/>
            <a:gdLst/>
            <a:ahLst/>
            <a:rect l="l" t="t" r="r" b="b"/>
            <a:pathLst>
              <a:path w="4233797" h="1265129">
                <a:moveTo>
                  <a:pt x="4233797" y="1265129"/>
                </a:moveTo>
                <a:cubicBezTo>
                  <a:pt x="4231103" y="1251658"/>
                  <a:pt x="4220300" y="1184180"/>
                  <a:pt x="4208745" y="1164921"/>
                </a:cubicBezTo>
                <a:cubicBezTo>
                  <a:pt x="4202669" y="1154794"/>
                  <a:pt x="4192044" y="1148219"/>
                  <a:pt x="4183693" y="1139868"/>
                </a:cubicBezTo>
                <a:cubicBezTo>
                  <a:pt x="4149120" y="1036148"/>
                  <a:pt x="4173289" y="1086684"/>
                  <a:pt x="4108537" y="989556"/>
                </a:cubicBezTo>
                <a:cubicBezTo>
                  <a:pt x="4093889" y="967584"/>
                  <a:pt x="4091836" y="939452"/>
                  <a:pt x="4083485" y="914400"/>
                </a:cubicBezTo>
                <a:lnTo>
                  <a:pt x="4058433" y="839244"/>
                </a:lnTo>
                <a:cubicBezTo>
                  <a:pt x="4053672" y="824962"/>
                  <a:pt x="4040114" y="815131"/>
                  <a:pt x="4033381" y="801666"/>
                </a:cubicBezTo>
                <a:cubicBezTo>
                  <a:pt x="4027476" y="789856"/>
                  <a:pt x="4026760" y="775898"/>
                  <a:pt x="4020855" y="764088"/>
                </a:cubicBezTo>
                <a:cubicBezTo>
                  <a:pt x="3990202" y="702783"/>
                  <a:pt x="4005702" y="748060"/>
                  <a:pt x="3970750" y="701457"/>
                </a:cubicBezTo>
                <a:cubicBezTo>
                  <a:pt x="3952685" y="677370"/>
                  <a:pt x="3937347" y="651353"/>
                  <a:pt x="3920646" y="626301"/>
                </a:cubicBezTo>
                <a:cubicBezTo>
                  <a:pt x="3913322" y="615315"/>
                  <a:pt x="3895764" y="617402"/>
                  <a:pt x="3883068" y="613775"/>
                </a:cubicBezTo>
                <a:cubicBezTo>
                  <a:pt x="3750553" y="575914"/>
                  <a:pt x="3936411" y="635731"/>
                  <a:pt x="3757808" y="576197"/>
                </a:cubicBezTo>
                <a:cubicBezTo>
                  <a:pt x="3714057" y="561613"/>
                  <a:pt x="3665981" y="567501"/>
                  <a:pt x="3620022" y="563671"/>
                </a:cubicBezTo>
                <a:lnTo>
                  <a:pt x="3457183" y="551145"/>
                </a:lnTo>
                <a:cubicBezTo>
                  <a:pt x="3257704" y="536897"/>
                  <a:pt x="3246323" y="537410"/>
                  <a:pt x="3031298" y="526093"/>
                </a:cubicBezTo>
                <a:cubicBezTo>
                  <a:pt x="3014597" y="521918"/>
                  <a:pt x="2996592" y="521266"/>
                  <a:pt x="2981194" y="513567"/>
                </a:cubicBezTo>
                <a:cubicBezTo>
                  <a:pt x="2808910" y="427425"/>
                  <a:pt x="2972377" y="485576"/>
                  <a:pt x="2868460" y="450937"/>
                </a:cubicBezTo>
                <a:cubicBezTo>
                  <a:pt x="2855934" y="442586"/>
                  <a:pt x="2841527" y="436530"/>
                  <a:pt x="2830882" y="425885"/>
                </a:cubicBezTo>
                <a:cubicBezTo>
                  <a:pt x="2820237" y="415240"/>
                  <a:pt x="2817585" y="397711"/>
                  <a:pt x="2805830" y="388307"/>
                </a:cubicBezTo>
                <a:cubicBezTo>
                  <a:pt x="2795520" y="380059"/>
                  <a:pt x="2780778" y="379956"/>
                  <a:pt x="2768252" y="375781"/>
                </a:cubicBezTo>
                <a:lnTo>
                  <a:pt x="2693096" y="325677"/>
                </a:lnTo>
                <a:cubicBezTo>
                  <a:pt x="2678357" y="315851"/>
                  <a:pt x="2669127" y="299439"/>
                  <a:pt x="2655518" y="288099"/>
                </a:cubicBezTo>
                <a:cubicBezTo>
                  <a:pt x="2643953" y="278461"/>
                  <a:pt x="2630465" y="271398"/>
                  <a:pt x="2617939" y="263047"/>
                </a:cubicBezTo>
                <a:cubicBezTo>
                  <a:pt x="2613764" y="250521"/>
                  <a:pt x="2611825" y="237010"/>
                  <a:pt x="2605413" y="225468"/>
                </a:cubicBezTo>
                <a:cubicBezTo>
                  <a:pt x="2590791" y="199148"/>
                  <a:pt x="2572010" y="175364"/>
                  <a:pt x="2555309" y="150312"/>
                </a:cubicBezTo>
                <a:cubicBezTo>
                  <a:pt x="2530697" y="113394"/>
                  <a:pt x="2481734" y="100735"/>
                  <a:pt x="2442575" y="87682"/>
                </a:cubicBezTo>
                <a:cubicBezTo>
                  <a:pt x="2334882" y="15886"/>
                  <a:pt x="2471139" y="101964"/>
                  <a:pt x="2367419" y="50104"/>
                </a:cubicBezTo>
                <a:cubicBezTo>
                  <a:pt x="2353954" y="43371"/>
                  <a:pt x="2343937" y="30338"/>
                  <a:pt x="2329841" y="25052"/>
                </a:cubicBezTo>
                <a:cubicBezTo>
                  <a:pt x="2307298" y="16598"/>
                  <a:pt x="2192549" y="1860"/>
                  <a:pt x="2179529" y="0"/>
                </a:cubicBezTo>
                <a:cubicBezTo>
                  <a:pt x="2125249" y="4175"/>
                  <a:pt x="2069505" y="-678"/>
                  <a:pt x="2016690" y="12526"/>
                </a:cubicBezTo>
                <a:cubicBezTo>
                  <a:pt x="1999504" y="16822"/>
                  <a:pt x="1992721" y="38763"/>
                  <a:pt x="1979112" y="50104"/>
                </a:cubicBezTo>
                <a:cubicBezTo>
                  <a:pt x="1967547" y="59742"/>
                  <a:pt x="1955816" y="70395"/>
                  <a:pt x="1941534" y="75156"/>
                </a:cubicBezTo>
                <a:cubicBezTo>
                  <a:pt x="1917440" y="83187"/>
                  <a:pt x="1891366" y="83139"/>
                  <a:pt x="1866378" y="87682"/>
                </a:cubicBezTo>
                <a:cubicBezTo>
                  <a:pt x="1845431" y="91490"/>
                  <a:pt x="1824288" y="94606"/>
                  <a:pt x="1803748" y="100208"/>
                </a:cubicBezTo>
                <a:cubicBezTo>
                  <a:pt x="1637697" y="145495"/>
                  <a:pt x="1835834" y="117011"/>
                  <a:pt x="1565753" y="137786"/>
                </a:cubicBezTo>
                <a:lnTo>
                  <a:pt x="1365337" y="187890"/>
                </a:lnTo>
                <a:cubicBezTo>
                  <a:pt x="1344683" y="193054"/>
                  <a:pt x="1323247" y="194814"/>
                  <a:pt x="1302707" y="200416"/>
                </a:cubicBezTo>
                <a:cubicBezTo>
                  <a:pt x="1277230" y="207364"/>
                  <a:pt x="1227550" y="225468"/>
                  <a:pt x="1227550" y="225468"/>
                </a:cubicBezTo>
                <a:cubicBezTo>
                  <a:pt x="1219199" y="233819"/>
                  <a:pt x="1213061" y="245239"/>
                  <a:pt x="1202498" y="250521"/>
                </a:cubicBezTo>
                <a:cubicBezTo>
                  <a:pt x="1178879" y="262331"/>
                  <a:pt x="1127342" y="275573"/>
                  <a:pt x="1127342" y="275573"/>
                </a:cubicBezTo>
                <a:cubicBezTo>
                  <a:pt x="1102290" y="292274"/>
                  <a:pt x="1068887" y="300625"/>
                  <a:pt x="1052186" y="325677"/>
                </a:cubicBezTo>
                <a:cubicBezTo>
                  <a:pt x="1019810" y="374241"/>
                  <a:pt x="1041416" y="358494"/>
                  <a:pt x="989556" y="375781"/>
                </a:cubicBezTo>
                <a:lnTo>
                  <a:pt x="839244" y="475989"/>
                </a:lnTo>
                <a:cubicBezTo>
                  <a:pt x="826718" y="484340"/>
                  <a:pt x="812311" y="490396"/>
                  <a:pt x="801666" y="501041"/>
                </a:cubicBezTo>
                <a:cubicBezTo>
                  <a:pt x="793315" y="509392"/>
                  <a:pt x="786740" y="520017"/>
                  <a:pt x="776613" y="526093"/>
                </a:cubicBezTo>
                <a:cubicBezTo>
                  <a:pt x="765291" y="532886"/>
                  <a:pt x="751561" y="534444"/>
                  <a:pt x="739035" y="538619"/>
                </a:cubicBezTo>
                <a:cubicBezTo>
                  <a:pt x="726509" y="546970"/>
                  <a:pt x="714922" y="556938"/>
                  <a:pt x="701457" y="563671"/>
                </a:cubicBezTo>
                <a:cubicBezTo>
                  <a:pt x="689647" y="569576"/>
                  <a:pt x="673215" y="566861"/>
                  <a:pt x="663879" y="576197"/>
                </a:cubicBezTo>
                <a:cubicBezTo>
                  <a:pt x="563380" y="676696"/>
                  <a:pt x="661227" y="635536"/>
                  <a:pt x="576197" y="663879"/>
                </a:cubicBezTo>
                <a:cubicBezTo>
                  <a:pt x="460537" y="740986"/>
                  <a:pt x="602809" y="642589"/>
                  <a:pt x="513567" y="713984"/>
                </a:cubicBezTo>
                <a:cubicBezTo>
                  <a:pt x="501812" y="723389"/>
                  <a:pt x="488515" y="730685"/>
                  <a:pt x="475989" y="739036"/>
                </a:cubicBezTo>
                <a:cubicBezTo>
                  <a:pt x="467638" y="751562"/>
                  <a:pt x="463703" y="768635"/>
                  <a:pt x="450937" y="776614"/>
                </a:cubicBezTo>
                <a:cubicBezTo>
                  <a:pt x="428544" y="790610"/>
                  <a:pt x="375781" y="801666"/>
                  <a:pt x="375781" y="801666"/>
                </a:cubicBezTo>
                <a:cubicBezTo>
                  <a:pt x="363255" y="810017"/>
                  <a:pt x="351668" y="819986"/>
                  <a:pt x="338203" y="826718"/>
                </a:cubicBezTo>
                <a:cubicBezTo>
                  <a:pt x="326393" y="832623"/>
                  <a:pt x="313434" y="836042"/>
                  <a:pt x="300624" y="839244"/>
                </a:cubicBezTo>
                <a:cubicBezTo>
                  <a:pt x="236812" y="855197"/>
                  <a:pt x="195412" y="856501"/>
                  <a:pt x="125260" y="864296"/>
                </a:cubicBezTo>
                <a:lnTo>
                  <a:pt x="50104" y="889348"/>
                </a:lnTo>
                <a:cubicBezTo>
                  <a:pt x="6924" y="903741"/>
                  <a:pt x="21862" y="892538"/>
                  <a:pt x="0" y="914400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任意多边形 12"/>
          <p:cNvSpPr/>
          <p:nvPr/>
        </p:nvSpPr>
        <p:spPr>
          <a:xfrm>
            <a:off x="946080" y="1859040"/>
            <a:ext cx="2505240" cy="414360"/>
          </a:xfrm>
          <a:custGeom>
            <a:avLst/>
            <a:gdLst/>
            <a:ahLst/>
            <a:rect l="l" t="t" r="r" b="b"/>
            <a:pathLst>
              <a:path w="2505205" h="413359">
                <a:moveTo>
                  <a:pt x="2505205" y="137786"/>
                </a:moveTo>
                <a:cubicBezTo>
                  <a:pt x="2484328" y="129435"/>
                  <a:pt x="2463628" y="120629"/>
                  <a:pt x="2442575" y="112734"/>
                </a:cubicBezTo>
                <a:cubicBezTo>
                  <a:pt x="2430212" y="108098"/>
                  <a:pt x="2418128" y="101590"/>
                  <a:pt x="2404997" y="100208"/>
                </a:cubicBezTo>
                <a:cubicBezTo>
                  <a:pt x="2338429" y="93201"/>
                  <a:pt x="2271386" y="91857"/>
                  <a:pt x="2204581" y="87682"/>
                </a:cubicBezTo>
                <a:cubicBezTo>
                  <a:pt x="2090758" y="103942"/>
                  <a:pt x="2144907" y="90872"/>
                  <a:pt x="2041742" y="125260"/>
                </a:cubicBezTo>
                <a:lnTo>
                  <a:pt x="2004164" y="137786"/>
                </a:lnTo>
                <a:cubicBezTo>
                  <a:pt x="1995813" y="146137"/>
                  <a:pt x="1988560" y="155753"/>
                  <a:pt x="1979112" y="162839"/>
                </a:cubicBezTo>
                <a:cubicBezTo>
                  <a:pt x="1882310" y="235442"/>
                  <a:pt x="1908321" y="214939"/>
                  <a:pt x="1766170" y="225469"/>
                </a:cubicBezTo>
                <a:cubicBezTo>
                  <a:pt x="1699417" y="230414"/>
                  <a:pt x="1632600" y="234537"/>
                  <a:pt x="1565753" y="237995"/>
                </a:cubicBezTo>
                <a:lnTo>
                  <a:pt x="1039660" y="263047"/>
                </a:lnTo>
                <a:cubicBezTo>
                  <a:pt x="1006257" y="271398"/>
                  <a:pt x="972116" y="277211"/>
                  <a:pt x="939452" y="288099"/>
                </a:cubicBezTo>
                <a:lnTo>
                  <a:pt x="826718" y="325677"/>
                </a:lnTo>
                <a:cubicBezTo>
                  <a:pt x="814192" y="329852"/>
                  <a:pt x="802087" y="335614"/>
                  <a:pt x="789140" y="338203"/>
                </a:cubicBezTo>
                <a:cubicBezTo>
                  <a:pt x="768263" y="342378"/>
                  <a:pt x="747164" y="345565"/>
                  <a:pt x="726510" y="350729"/>
                </a:cubicBezTo>
                <a:cubicBezTo>
                  <a:pt x="631006" y="374605"/>
                  <a:pt x="755970" y="352352"/>
                  <a:pt x="638827" y="375781"/>
                </a:cubicBezTo>
                <a:cubicBezTo>
                  <a:pt x="595378" y="384471"/>
                  <a:pt x="518101" y="394817"/>
                  <a:pt x="475989" y="400833"/>
                </a:cubicBezTo>
                <a:cubicBezTo>
                  <a:pt x="463463" y="405008"/>
                  <a:pt x="451615" y="413359"/>
                  <a:pt x="438411" y="413359"/>
                </a:cubicBezTo>
                <a:cubicBezTo>
                  <a:pt x="404962" y="413359"/>
                  <a:pt x="382083" y="385848"/>
                  <a:pt x="363255" y="363255"/>
                </a:cubicBezTo>
                <a:cubicBezTo>
                  <a:pt x="353617" y="351690"/>
                  <a:pt x="344936" y="339142"/>
                  <a:pt x="338203" y="325677"/>
                </a:cubicBezTo>
                <a:cubicBezTo>
                  <a:pt x="332298" y="313867"/>
                  <a:pt x="333925" y="298409"/>
                  <a:pt x="325677" y="288099"/>
                </a:cubicBezTo>
                <a:cubicBezTo>
                  <a:pt x="316273" y="276344"/>
                  <a:pt x="299429" y="272960"/>
                  <a:pt x="288099" y="263047"/>
                </a:cubicBezTo>
                <a:cubicBezTo>
                  <a:pt x="229477" y="211753"/>
                  <a:pt x="234373" y="213775"/>
                  <a:pt x="200416" y="162839"/>
                </a:cubicBezTo>
                <a:cubicBezTo>
                  <a:pt x="192164" y="138084"/>
                  <a:pt x="184913" y="105342"/>
                  <a:pt x="162838" y="87682"/>
                </a:cubicBezTo>
                <a:cubicBezTo>
                  <a:pt x="152528" y="79434"/>
                  <a:pt x="137070" y="81061"/>
                  <a:pt x="125260" y="75156"/>
                </a:cubicBezTo>
                <a:cubicBezTo>
                  <a:pt x="111795" y="68423"/>
                  <a:pt x="101439" y="56218"/>
                  <a:pt x="87682" y="50104"/>
                </a:cubicBezTo>
                <a:cubicBezTo>
                  <a:pt x="-2332" y="10098"/>
                  <a:pt x="26457" y="52915"/>
                  <a:pt x="0" y="0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任意多边形 13"/>
          <p:cNvSpPr/>
          <p:nvPr/>
        </p:nvSpPr>
        <p:spPr>
          <a:xfrm>
            <a:off x="946080" y="2443320"/>
            <a:ext cx="3168720" cy="1139760"/>
          </a:xfrm>
          <a:custGeom>
            <a:avLst/>
            <a:gdLst/>
            <a:ahLst/>
            <a:rect l="l" t="t" r="r" b="b"/>
            <a:pathLst>
              <a:path w="3169085" h="1141086">
                <a:moveTo>
                  <a:pt x="3169085" y="0"/>
                </a:moveTo>
                <a:cubicBezTo>
                  <a:pt x="3148208" y="16701"/>
                  <a:pt x="3126754" y="32705"/>
                  <a:pt x="3106455" y="50104"/>
                </a:cubicBezTo>
                <a:cubicBezTo>
                  <a:pt x="3097488" y="57790"/>
                  <a:pt x="3091530" y="69081"/>
                  <a:pt x="3081403" y="75157"/>
                </a:cubicBezTo>
                <a:cubicBezTo>
                  <a:pt x="3070081" y="81950"/>
                  <a:pt x="3056350" y="83508"/>
                  <a:pt x="3043824" y="87683"/>
                </a:cubicBezTo>
                <a:cubicBezTo>
                  <a:pt x="3031298" y="96034"/>
                  <a:pt x="3019711" y="106002"/>
                  <a:pt x="3006246" y="112735"/>
                </a:cubicBezTo>
                <a:cubicBezTo>
                  <a:pt x="2994436" y="118640"/>
                  <a:pt x="2978978" y="117013"/>
                  <a:pt x="2968668" y="125261"/>
                </a:cubicBezTo>
                <a:cubicBezTo>
                  <a:pt x="2956913" y="134665"/>
                  <a:pt x="2953254" y="151274"/>
                  <a:pt x="2943616" y="162839"/>
                </a:cubicBezTo>
                <a:cubicBezTo>
                  <a:pt x="2863244" y="259285"/>
                  <a:pt x="2943185" y="144696"/>
                  <a:pt x="2880986" y="237995"/>
                </a:cubicBezTo>
                <a:cubicBezTo>
                  <a:pt x="2887776" y="271945"/>
                  <a:pt x="2887846" y="313629"/>
                  <a:pt x="2918564" y="338203"/>
                </a:cubicBezTo>
                <a:cubicBezTo>
                  <a:pt x="2928874" y="346451"/>
                  <a:pt x="2943616" y="346554"/>
                  <a:pt x="2956142" y="350729"/>
                </a:cubicBezTo>
                <a:cubicBezTo>
                  <a:pt x="2999781" y="416187"/>
                  <a:pt x="2976077" y="359208"/>
                  <a:pt x="2968668" y="425885"/>
                </a:cubicBezTo>
                <a:cubicBezTo>
                  <a:pt x="2965762" y="452043"/>
                  <a:pt x="2973783" y="591020"/>
                  <a:pt x="2943616" y="651354"/>
                </a:cubicBezTo>
                <a:cubicBezTo>
                  <a:pt x="2936883" y="664819"/>
                  <a:pt x="2925297" y="675467"/>
                  <a:pt x="2918564" y="688932"/>
                </a:cubicBezTo>
                <a:cubicBezTo>
                  <a:pt x="2895582" y="734895"/>
                  <a:pt x="2921886" y="728470"/>
                  <a:pt x="2868460" y="764088"/>
                </a:cubicBezTo>
                <a:cubicBezTo>
                  <a:pt x="2844610" y="779988"/>
                  <a:pt x="2750626" y="788079"/>
                  <a:pt x="2743200" y="789140"/>
                </a:cubicBezTo>
                <a:cubicBezTo>
                  <a:pt x="2725516" y="795035"/>
                  <a:pt x="2677377" y="799947"/>
                  <a:pt x="2693096" y="839244"/>
                </a:cubicBezTo>
                <a:cubicBezTo>
                  <a:pt x="2698687" y="853222"/>
                  <a:pt x="2718148" y="855945"/>
                  <a:pt x="2730674" y="864296"/>
                </a:cubicBezTo>
                <a:cubicBezTo>
                  <a:pt x="2739025" y="889348"/>
                  <a:pt x="2749321" y="913833"/>
                  <a:pt x="2755726" y="939452"/>
                </a:cubicBezTo>
                <a:cubicBezTo>
                  <a:pt x="2759901" y="956154"/>
                  <a:pt x="2763305" y="973067"/>
                  <a:pt x="2768252" y="989557"/>
                </a:cubicBezTo>
                <a:cubicBezTo>
                  <a:pt x="2775840" y="1014850"/>
                  <a:pt x="2793304" y="1064713"/>
                  <a:pt x="2793304" y="1064713"/>
                </a:cubicBezTo>
                <a:cubicBezTo>
                  <a:pt x="2789129" y="1089765"/>
                  <a:pt x="2800289" y="1123610"/>
                  <a:pt x="2780778" y="1139869"/>
                </a:cubicBezTo>
                <a:cubicBezTo>
                  <a:pt x="2772141" y="1147067"/>
                  <a:pt x="2696831" y="1120237"/>
                  <a:pt x="2680570" y="1114817"/>
                </a:cubicBezTo>
                <a:cubicBezTo>
                  <a:pt x="2652228" y="1029790"/>
                  <a:pt x="2693385" y="1127628"/>
                  <a:pt x="2592888" y="1027135"/>
                </a:cubicBezTo>
                <a:cubicBezTo>
                  <a:pt x="2584537" y="1018784"/>
                  <a:pt x="2578398" y="1007365"/>
                  <a:pt x="2567835" y="1002083"/>
                </a:cubicBezTo>
                <a:cubicBezTo>
                  <a:pt x="2544216" y="990273"/>
                  <a:pt x="2492679" y="977030"/>
                  <a:pt x="2492679" y="977030"/>
                </a:cubicBezTo>
                <a:cubicBezTo>
                  <a:pt x="2480153" y="964504"/>
                  <a:pt x="2463704" y="954937"/>
                  <a:pt x="2455101" y="939452"/>
                </a:cubicBezTo>
                <a:cubicBezTo>
                  <a:pt x="2442277" y="916368"/>
                  <a:pt x="2438400" y="889348"/>
                  <a:pt x="2430049" y="864296"/>
                </a:cubicBezTo>
                <a:cubicBezTo>
                  <a:pt x="2425874" y="851770"/>
                  <a:pt x="2426859" y="836054"/>
                  <a:pt x="2417523" y="826718"/>
                </a:cubicBezTo>
                <a:lnTo>
                  <a:pt x="2379945" y="789140"/>
                </a:lnTo>
                <a:cubicBezTo>
                  <a:pt x="2375770" y="776614"/>
                  <a:pt x="2373324" y="763372"/>
                  <a:pt x="2367419" y="751562"/>
                </a:cubicBezTo>
                <a:cubicBezTo>
                  <a:pt x="2304520" y="625764"/>
                  <a:pt x="2383196" y="817601"/>
                  <a:pt x="2317315" y="663880"/>
                </a:cubicBezTo>
                <a:cubicBezTo>
                  <a:pt x="2312114" y="651744"/>
                  <a:pt x="2310694" y="638112"/>
                  <a:pt x="2304789" y="626302"/>
                </a:cubicBezTo>
                <a:cubicBezTo>
                  <a:pt x="2298056" y="612837"/>
                  <a:pt x="2286470" y="602189"/>
                  <a:pt x="2279737" y="588724"/>
                </a:cubicBezTo>
                <a:cubicBezTo>
                  <a:pt x="2247215" y="523680"/>
                  <a:pt x="2291092" y="575028"/>
                  <a:pt x="2242159" y="526093"/>
                </a:cubicBezTo>
                <a:cubicBezTo>
                  <a:pt x="2229756" y="488884"/>
                  <a:pt x="2221830" y="443134"/>
                  <a:pt x="2192055" y="413359"/>
                </a:cubicBezTo>
                <a:cubicBezTo>
                  <a:pt x="2181410" y="402714"/>
                  <a:pt x="2167942" y="395039"/>
                  <a:pt x="2154477" y="388307"/>
                </a:cubicBezTo>
                <a:cubicBezTo>
                  <a:pt x="2142667" y="382402"/>
                  <a:pt x="2129424" y="379956"/>
                  <a:pt x="2116898" y="375781"/>
                </a:cubicBezTo>
                <a:cubicBezTo>
                  <a:pt x="2022445" y="407265"/>
                  <a:pt x="2135208" y="361133"/>
                  <a:pt x="2054268" y="425885"/>
                </a:cubicBezTo>
                <a:cubicBezTo>
                  <a:pt x="2043958" y="434133"/>
                  <a:pt x="2029216" y="434236"/>
                  <a:pt x="2016690" y="438411"/>
                </a:cubicBezTo>
                <a:cubicBezTo>
                  <a:pt x="2012515" y="450937"/>
                  <a:pt x="2013500" y="466653"/>
                  <a:pt x="2004164" y="475989"/>
                </a:cubicBezTo>
                <a:cubicBezTo>
                  <a:pt x="1982874" y="497279"/>
                  <a:pt x="1950298" y="504802"/>
                  <a:pt x="1929008" y="526093"/>
                </a:cubicBezTo>
                <a:cubicBezTo>
                  <a:pt x="1893311" y="561791"/>
                  <a:pt x="1913782" y="544595"/>
                  <a:pt x="1866378" y="576198"/>
                </a:cubicBezTo>
                <a:cubicBezTo>
                  <a:pt x="1858027" y="588724"/>
                  <a:pt x="1850964" y="602211"/>
                  <a:pt x="1841326" y="613776"/>
                </a:cubicBezTo>
                <a:cubicBezTo>
                  <a:pt x="1829985" y="627385"/>
                  <a:pt x="1813574" y="636615"/>
                  <a:pt x="1803748" y="651354"/>
                </a:cubicBezTo>
                <a:cubicBezTo>
                  <a:pt x="1731237" y="760121"/>
                  <a:pt x="1873521" y="606633"/>
                  <a:pt x="1753644" y="726510"/>
                </a:cubicBezTo>
                <a:cubicBezTo>
                  <a:pt x="1731597" y="792651"/>
                  <a:pt x="1748441" y="753104"/>
                  <a:pt x="1691014" y="839244"/>
                </a:cubicBezTo>
                <a:lnTo>
                  <a:pt x="1665961" y="876822"/>
                </a:lnTo>
                <a:cubicBezTo>
                  <a:pt x="1656191" y="906132"/>
                  <a:pt x="1655851" y="932786"/>
                  <a:pt x="1615857" y="939452"/>
                </a:cubicBezTo>
                <a:cubicBezTo>
                  <a:pt x="1602833" y="941623"/>
                  <a:pt x="1590805" y="931101"/>
                  <a:pt x="1578279" y="926926"/>
                </a:cubicBezTo>
                <a:cubicBezTo>
                  <a:pt x="1574104" y="914400"/>
                  <a:pt x="1576497" y="897022"/>
                  <a:pt x="1565753" y="889348"/>
                </a:cubicBezTo>
                <a:cubicBezTo>
                  <a:pt x="1544265" y="873999"/>
                  <a:pt x="1490597" y="864296"/>
                  <a:pt x="1490597" y="864296"/>
                </a:cubicBezTo>
                <a:cubicBezTo>
                  <a:pt x="1473896" y="839244"/>
                  <a:pt x="1450014" y="817704"/>
                  <a:pt x="1440493" y="789140"/>
                </a:cubicBezTo>
                <a:cubicBezTo>
                  <a:pt x="1402486" y="675119"/>
                  <a:pt x="1460787" y="855202"/>
                  <a:pt x="1415441" y="688932"/>
                </a:cubicBezTo>
                <a:cubicBezTo>
                  <a:pt x="1408493" y="663455"/>
                  <a:pt x="1396794" y="639395"/>
                  <a:pt x="1390389" y="613776"/>
                </a:cubicBezTo>
                <a:cubicBezTo>
                  <a:pt x="1371459" y="538054"/>
                  <a:pt x="1383306" y="580002"/>
                  <a:pt x="1352811" y="488515"/>
                </a:cubicBezTo>
                <a:cubicBezTo>
                  <a:pt x="1338758" y="446357"/>
                  <a:pt x="1339998" y="444172"/>
                  <a:pt x="1315233" y="400833"/>
                </a:cubicBezTo>
                <a:cubicBezTo>
                  <a:pt x="1307764" y="387762"/>
                  <a:pt x="1301936" y="372659"/>
                  <a:pt x="1290181" y="363255"/>
                </a:cubicBezTo>
                <a:cubicBezTo>
                  <a:pt x="1279871" y="355007"/>
                  <a:pt x="1265129" y="354904"/>
                  <a:pt x="1252603" y="350729"/>
                </a:cubicBezTo>
                <a:cubicBezTo>
                  <a:pt x="1240077" y="338203"/>
                  <a:pt x="1228633" y="324492"/>
                  <a:pt x="1215024" y="313151"/>
                </a:cubicBezTo>
                <a:cubicBezTo>
                  <a:pt x="1203459" y="303513"/>
                  <a:pt x="1188091" y="298744"/>
                  <a:pt x="1177446" y="288099"/>
                </a:cubicBezTo>
                <a:cubicBezTo>
                  <a:pt x="1166801" y="277454"/>
                  <a:pt x="1160745" y="263047"/>
                  <a:pt x="1152394" y="250521"/>
                </a:cubicBezTo>
                <a:cubicBezTo>
                  <a:pt x="1127342" y="254696"/>
                  <a:pt x="1102413" y="259690"/>
                  <a:pt x="1077238" y="263047"/>
                </a:cubicBezTo>
                <a:cubicBezTo>
                  <a:pt x="1039760" y="268044"/>
                  <a:pt x="1000037" y="262652"/>
                  <a:pt x="964504" y="275573"/>
                </a:cubicBezTo>
                <a:cubicBezTo>
                  <a:pt x="950356" y="280718"/>
                  <a:pt x="951207" y="303747"/>
                  <a:pt x="939452" y="313151"/>
                </a:cubicBezTo>
                <a:cubicBezTo>
                  <a:pt x="929142" y="321399"/>
                  <a:pt x="914400" y="321502"/>
                  <a:pt x="901874" y="325677"/>
                </a:cubicBezTo>
                <a:cubicBezTo>
                  <a:pt x="893523" y="338203"/>
                  <a:pt x="888577" y="353851"/>
                  <a:pt x="876822" y="363255"/>
                </a:cubicBezTo>
                <a:cubicBezTo>
                  <a:pt x="866512" y="371503"/>
                  <a:pt x="850786" y="369369"/>
                  <a:pt x="839244" y="375781"/>
                </a:cubicBezTo>
                <a:cubicBezTo>
                  <a:pt x="812924" y="390403"/>
                  <a:pt x="785379" y="404595"/>
                  <a:pt x="764088" y="425885"/>
                </a:cubicBezTo>
                <a:cubicBezTo>
                  <a:pt x="755737" y="434236"/>
                  <a:pt x="746413" y="441715"/>
                  <a:pt x="739035" y="450937"/>
                </a:cubicBezTo>
                <a:cubicBezTo>
                  <a:pt x="729630" y="462692"/>
                  <a:pt x="724628" y="477870"/>
                  <a:pt x="713983" y="488515"/>
                </a:cubicBezTo>
                <a:cubicBezTo>
                  <a:pt x="689701" y="512797"/>
                  <a:pt x="669390" y="515905"/>
                  <a:pt x="638827" y="526093"/>
                </a:cubicBezTo>
                <a:cubicBezTo>
                  <a:pt x="582624" y="582298"/>
                  <a:pt x="649368" y="523022"/>
                  <a:pt x="576197" y="563672"/>
                </a:cubicBezTo>
                <a:cubicBezTo>
                  <a:pt x="549877" y="578294"/>
                  <a:pt x="526093" y="597075"/>
                  <a:pt x="501041" y="613776"/>
                </a:cubicBezTo>
                <a:lnTo>
                  <a:pt x="463463" y="638828"/>
                </a:lnTo>
                <a:cubicBezTo>
                  <a:pt x="450937" y="647179"/>
                  <a:pt x="440167" y="659119"/>
                  <a:pt x="425885" y="663880"/>
                </a:cubicBezTo>
                <a:lnTo>
                  <a:pt x="350729" y="688932"/>
                </a:lnTo>
                <a:lnTo>
                  <a:pt x="313151" y="701458"/>
                </a:lnTo>
                <a:cubicBezTo>
                  <a:pt x="292274" y="697283"/>
                  <a:pt x="265575" y="703987"/>
                  <a:pt x="250520" y="688932"/>
                </a:cubicBezTo>
                <a:cubicBezTo>
                  <a:pt x="231847" y="670259"/>
                  <a:pt x="240116" y="635748"/>
                  <a:pt x="225468" y="613776"/>
                </a:cubicBezTo>
                <a:cubicBezTo>
                  <a:pt x="192065" y="563672"/>
                  <a:pt x="212942" y="584549"/>
                  <a:pt x="162838" y="551146"/>
                </a:cubicBezTo>
                <a:cubicBezTo>
                  <a:pt x="158663" y="538620"/>
                  <a:pt x="156724" y="525109"/>
                  <a:pt x="150312" y="513567"/>
                </a:cubicBezTo>
                <a:cubicBezTo>
                  <a:pt x="135690" y="487247"/>
                  <a:pt x="109729" y="466975"/>
                  <a:pt x="100208" y="438411"/>
                </a:cubicBezTo>
                <a:cubicBezTo>
                  <a:pt x="91857" y="413359"/>
                  <a:pt x="79497" y="389303"/>
                  <a:pt x="75156" y="363255"/>
                </a:cubicBezTo>
                <a:cubicBezTo>
                  <a:pt x="66692" y="312468"/>
                  <a:pt x="64118" y="284710"/>
                  <a:pt x="50104" y="237995"/>
                </a:cubicBezTo>
                <a:lnTo>
                  <a:pt x="12526" y="125261"/>
                </a:lnTo>
                <a:cubicBezTo>
                  <a:pt x="8351" y="112735"/>
                  <a:pt x="0" y="100887"/>
                  <a:pt x="0" y="87683"/>
                </a:cubicBezTo>
                <a:lnTo>
                  <a:pt x="0" y="25052"/>
                </a:lnTo>
              </a:path>
            </a:pathLst>
          </a:custGeom>
          <a:noFill/>
          <a:ln w="63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任意多边形 14"/>
          <p:cNvSpPr/>
          <p:nvPr/>
        </p:nvSpPr>
        <p:spPr>
          <a:xfrm>
            <a:off x="969840" y="1954080"/>
            <a:ext cx="3021120" cy="1603440"/>
          </a:xfrm>
          <a:custGeom>
            <a:avLst/>
            <a:gdLst/>
            <a:ahLst/>
            <a:rect l="l" t="t" r="r" b="b"/>
            <a:pathLst>
              <a:path w="3019947" h="1603332">
                <a:moveTo>
                  <a:pt x="2993720" y="688932"/>
                </a:moveTo>
                <a:cubicBezTo>
                  <a:pt x="3030474" y="780817"/>
                  <a:pt x="3030635" y="725573"/>
                  <a:pt x="2981194" y="789140"/>
                </a:cubicBezTo>
                <a:cubicBezTo>
                  <a:pt x="2962709" y="812906"/>
                  <a:pt x="2931090" y="864296"/>
                  <a:pt x="2931090" y="864296"/>
                </a:cubicBezTo>
                <a:cubicBezTo>
                  <a:pt x="2926915" y="964504"/>
                  <a:pt x="2925973" y="1064900"/>
                  <a:pt x="2918564" y="1164921"/>
                </a:cubicBezTo>
                <a:cubicBezTo>
                  <a:pt x="2917589" y="1178088"/>
                  <a:pt x="2911943" y="1190689"/>
                  <a:pt x="2906038" y="1202499"/>
                </a:cubicBezTo>
                <a:cubicBezTo>
                  <a:pt x="2899305" y="1215964"/>
                  <a:pt x="2891631" y="1229432"/>
                  <a:pt x="2880986" y="1240077"/>
                </a:cubicBezTo>
                <a:cubicBezTo>
                  <a:pt x="2870341" y="1250722"/>
                  <a:pt x="2855934" y="1256778"/>
                  <a:pt x="2843408" y="1265129"/>
                </a:cubicBezTo>
                <a:cubicBezTo>
                  <a:pt x="2835057" y="1277655"/>
                  <a:pt x="2824286" y="1288870"/>
                  <a:pt x="2818356" y="1302707"/>
                </a:cubicBezTo>
                <a:cubicBezTo>
                  <a:pt x="2794891" y="1357459"/>
                  <a:pt x="2803595" y="1464534"/>
                  <a:pt x="2793304" y="1503124"/>
                </a:cubicBezTo>
                <a:cubicBezTo>
                  <a:pt x="2788740" y="1520240"/>
                  <a:pt x="2767067" y="1527093"/>
                  <a:pt x="2755726" y="1540702"/>
                </a:cubicBezTo>
                <a:cubicBezTo>
                  <a:pt x="2703534" y="1603332"/>
                  <a:pt x="2761989" y="1557403"/>
                  <a:pt x="2693096" y="1603332"/>
                </a:cubicBezTo>
                <a:cubicBezTo>
                  <a:pt x="2651343" y="1599157"/>
                  <a:pt x="2608545" y="1600983"/>
                  <a:pt x="2567836" y="1590806"/>
                </a:cubicBezTo>
                <a:cubicBezTo>
                  <a:pt x="2556379" y="1587942"/>
                  <a:pt x="2548065" y="1576317"/>
                  <a:pt x="2542783" y="1565754"/>
                </a:cubicBezTo>
                <a:cubicBezTo>
                  <a:pt x="2530973" y="1542135"/>
                  <a:pt x="2526082" y="1515650"/>
                  <a:pt x="2517731" y="1490598"/>
                </a:cubicBezTo>
                <a:cubicBezTo>
                  <a:pt x="2513556" y="1478072"/>
                  <a:pt x="2514542" y="1462356"/>
                  <a:pt x="2505205" y="1453019"/>
                </a:cubicBezTo>
                <a:cubicBezTo>
                  <a:pt x="2492679" y="1440493"/>
                  <a:pt x="2481610" y="1426317"/>
                  <a:pt x="2467627" y="1415441"/>
                </a:cubicBezTo>
                <a:cubicBezTo>
                  <a:pt x="2443861" y="1396956"/>
                  <a:pt x="2413761" y="1386627"/>
                  <a:pt x="2392471" y="1365337"/>
                </a:cubicBezTo>
                <a:cubicBezTo>
                  <a:pt x="2368873" y="1341739"/>
                  <a:pt x="2343792" y="1321571"/>
                  <a:pt x="2329841" y="1290181"/>
                </a:cubicBezTo>
                <a:cubicBezTo>
                  <a:pt x="2319116" y="1266050"/>
                  <a:pt x="2304789" y="1215025"/>
                  <a:pt x="2304789" y="1215025"/>
                </a:cubicBezTo>
                <a:cubicBezTo>
                  <a:pt x="2300614" y="1227551"/>
                  <a:pt x="2290092" y="1239579"/>
                  <a:pt x="2292263" y="1252603"/>
                </a:cubicBezTo>
                <a:cubicBezTo>
                  <a:pt x="2294738" y="1267453"/>
                  <a:pt x="2310582" y="1276716"/>
                  <a:pt x="2317315" y="1290181"/>
                </a:cubicBezTo>
                <a:cubicBezTo>
                  <a:pt x="2344037" y="1343625"/>
                  <a:pt x="2307294" y="1320243"/>
                  <a:pt x="2367419" y="1340285"/>
                </a:cubicBezTo>
                <a:cubicBezTo>
                  <a:pt x="2354893" y="1348636"/>
                  <a:pt x="2343598" y="1359223"/>
                  <a:pt x="2329841" y="1365337"/>
                </a:cubicBezTo>
                <a:cubicBezTo>
                  <a:pt x="2305710" y="1376062"/>
                  <a:pt x="2254685" y="1390389"/>
                  <a:pt x="2254685" y="1390389"/>
                </a:cubicBezTo>
                <a:cubicBezTo>
                  <a:pt x="2171178" y="1386214"/>
                  <a:pt x="2087461" y="1385106"/>
                  <a:pt x="2004164" y="1377863"/>
                </a:cubicBezTo>
                <a:cubicBezTo>
                  <a:pt x="1991010" y="1376719"/>
                  <a:pt x="1979282" y="1368964"/>
                  <a:pt x="1966586" y="1365337"/>
                </a:cubicBezTo>
                <a:cubicBezTo>
                  <a:pt x="1935952" y="1356584"/>
                  <a:pt x="1863651" y="1342643"/>
                  <a:pt x="1841326" y="1327759"/>
                </a:cubicBezTo>
                <a:cubicBezTo>
                  <a:pt x="1792762" y="1295383"/>
                  <a:pt x="1818030" y="1307468"/>
                  <a:pt x="1766170" y="1290181"/>
                </a:cubicBezTo>
                <a:cubicBezTo>
                  <a:pt x="1741118" y="1294356"/>
                  <a:pt x="1713065" y="1290106"/>
                  <a:pt x="1691014" y="1302707"/>
                </a:cubicBezTo>
                <a:cubicBezTo>
                  <a:pt x="1679550" y="1309258"/>
                  <a:pt x="1686736" y="1329975"/>
                  <a:pt x="1678488" y="1340285"/>
                </a:cubicBezTo>
                <a:cubicBezTo>
                  <a:pt x="1660828" y="1362359"/>
                  <a:pt x="1628086" y="1369611"/>
                  <a:pt x="1603331" y="1377863"/>
                </a:cubicBezTo>
                <a:cubicBezTo>
                  <a:pt x="1579510" y="1373099"/>
                  <a:pt x="1528801" y="1365650"/>
                  <a:pt x="1503123" y="1352811"/>
                </a:cubicBezTo>
                <a:cubicBezTo>
                  <a:pt x="1405995" y="1304247"/>
                  <a:pt x="1522420" y="1346717"/>
                  <a:pt x="1427967" y="1315233"/>
                </a:cubicBezTo>
                <a:cubicBezTo>
                  <a:pt x="1419616" y="1290181"/>
                  <a:pt x="1417563" y="1262049"/>
                  <a:pt x="1402915" y="1240077"/>
                </a:cubicBezTo>
                <a:cubicBezTo>
                  <a:pt x="1386214" y="1215025"/>
                  <a:pt x="1362332" y="1193485"/>
                  <a:pt x="1352811" y="1164921"/>
                </a:cubicBezTo>
                <a:cubicBezTo>
                  <a:pt x="1322778" y="1074822"/>
                  <a:pt x="1359216" y="1187337"/>
                  <a:pt x="1327759" y="1077239"/>
                </a:cubicBezTo>
                <a:cubicBezTo>
                  <a:pt x="1324132" y="1064543"/>
                  <a:pt x="1318860" y="1052357"/>
                  <a:pt x="1315233" y="1039661"/>
                </a:cubicBezTo>
                <a:cubicBezTo>
                  <a:pt x="1310504" y="1023108"/>
                  <a:pt x="1307436" y="1006109"/>
                  <a:pt x="1302707" y="989556"/>
                </a:cubicBezTo>
                <a:cubicBezTo>
                  <a:pt x="1299080" y="976860"/>
                  <a:pt x="1293808" y="964674"/>
                  <a:pt x="1290181" y="951978"/>
                </a:cubicBezTo>
                <a:cubicBezTo>
                  <a:pt x="1288093" y="944670"/>
                  <a:pt x="1272637" y="875558"/>
                  <a:pt x="1265129" y="864296"/>
                </a:cubicBezTo>
                <a:cubicBezTo>
                  <a:pt x="1255303" y="849557"/>
                  <a:pt x="1238892" y="840327"/>
                  <a:pt x="1227551" y="826718"/>
                </a:cubicBezTo>
                <a:cubicBezTo>
                  <a:pt x="1214906" y="811543"/>
                  <a:pt x="1198272" y="774501"/>
                  <a:pt x="1177446" y="764088"/>
                </a:cubicBezTo>
                <a:cubicBezTo>
                  <a:pt x="1069069" y="709900"/>
                  <a:pt x="893472" y="730335"/>
                  <a:pt x="801666" y="726510"/>
                </a:cubicBezTo>
                <a:cubicBezTo>
                  <a:pt x="781803" y="666920"/>
                  <a:pt x="785590" y="656310"/>
                  <a:pt x="751562" y="613776"/>
                </a:cubicBezTo>
                <a:cubicBezTo>
                  <a:pt x="744184" y="604554"/>
                  <a:pt x="735731" y="596101"/>
                  <a:pt x="726509" y="588724"/>
                </a:cubicBezTo>
                <a:cubicBezTo>
                  <a:pt x="714753" y="579320"/>
                  <a:pt x="700686" y="573077"/>
                  <a:pt x="688931" y="563672"/>
                </a:cubicBezTo>
                <a:cubicBezTo>
                  <a:pt x="679709" y="556294"/>
                  <a:pt x="674442" y="543901"/>
                  <a:pt x="663879" y="538619"/>
                </a:cubicBezTo>
                <a:cubicBezTo>
                  <a:pt x="640260" y="526809"/>
                  <a:pt x="613775" y="521918"/>
                  <a:pt x="588723" y="513567"/>
                </a:cubicBezTo>
                <a:cubicBezTo>
                  <a:pt x="576197" y="509392"/>
                  <a:pt x="563954" y="504243"/>
                  <a:pt x="551145" y="501041"/>
                </a:cubicBezTo>
                <a:cubicBezTo>
                  <a:pt x="535092" y="497028"/>
                  <a:pt x="481433" y="484974"/>
                  <a:pt x="463463" y="475989"/>
                </a:cubicBezTo>
                <a:cubicBezTo>
                  <a:pt x="449998" y="469256"/>
                  <a:pt x="438411" y="459288"/>
                  <a:pt x="425885" y="450937"/>
                </a:cubicBezTo>
                <a:cubicBezTo>
                  <a:pt x="396101" y="361586"/>
                  <a:pt x="438333" y="469610"/>
                  <a:pt x="375781" y="375781"/>
                </a:cubicBezTo>
                <a:cubicBezTo>
                  <a:pt x="368457" y="364795"/>
                  <a:pt x="369160" y="350013"/>
                  <a:pt x="363255" y="338203"/>
                </a:cubicBezTo>
                <a:cubicBezTo>
                  <a:pt x="356522" y="324738"/>
                  <a:pt x="344936" y="314090"/>
                  <a:pt x="338203" y="300625"/>
                </a:cubicBezTo>
                <a:cubicBezTo>
                  <a:pt x="332298" y="288815"/>
                  <a:pt x="331582" y="274857"/>
                  <a:pt x="325677" y="263047"/>
                </a:cubicBezTo>
                <a:cubicBezTo>
                  <a:pt x="288312" y="188318"/>
                  <a:pt x="303299" y="260796"/>
                  <a:pt x="237994" y="162839"/>
                </a:cubicBezTo>
                <a:cubicBezTo>
                  <a:pt x="229643" y="150313"/>
                  <a:pt x="224697" y="134665"/>
                  <a:pt x="212942" y="125261"/>
                </a:cubicBezTo>
                <a:cubicBezTo>
                  <a:pt x="202632" y="117013"/>
                  <a:pt x="187890" y="116910"/>
                  <a:pt x="175364" y="112735"/>
                </a:cubicBezTo>
                <a:cubicBezTo>
                  <a:pt x="152062" y="89432"/>
                  <a:pt x="144338" y="78432"/>
                  <a:pt x="112734" y="62630"/>
                </a:cubicBezTo>
                <a:cubicBezTo>
                  <a:pt x="100924" y="56725"/>
                  <a:pt x="86698" y="56516"/>
                  <a:pt x="75156" y="50104"/>
                </a:cubicBezTo>
                <a:cubicBezTo>
                  <a:pt x="48836" y="35482"/>
                  <a:pt x="0" y="0"/>
                  <a:pt x="0" y="0"/>
                </a:cubicBezTo>
              </a:path>
            </a:pathLst>
          </a:custGeom>
          <a:noFill/>
          <a:ln w="63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任意多边形 16"/>
          <p:cNvSpPr/>
          <p:nvPr/>
        </p:nvSpPr>
        <p:spPr>
          <a:xfrm>
            <a:off x="1058760" y="2705040"/>
            <a:ext cx="1289160" cy="1228680"/>
          </a:xfrm>
          <a:custGeom>
            <a:avLst/>
            <a:gdLst/>
            <a:ahLst/>
            <a:rect l="l" t="t" r="r" b="b"/>
            <a:pathLst>
              <a:path w="1290181" h="1227551">
                <a:moveTo>
                  <a:pt x="1290181" y="400833"/>
                </a:moveTo>
                <a:cubicBezTo>
                  <a:pt x="1281830" y="379956"/>
                  <a:pt x="1272813" y="359334"/>
                  <a:pt x="1265129" y="338203"/>
                </a:cubicBezTo>
                <a:cubicBezTo>
                  <a:pt x="1256104" y="313385"/>
                  <a:pt x="1254725" y="285018"/>
                  <a:pt x="1240077" y="263046"/>
                </a:cubicBezTo>
                <a:cubicBezTo>
                  <a:pt x="1231726" y="250520"/>
                  <a:pt x="1221139" y="239225"/>
                  <a:pt x="1215025" y="225468"/>
                </a:cubicBezTo>
                <a:cubicBezTo>
                  <a:pt x="1204300" y="201337"/>
                  <a:pt x="1198324" y="175364"/>
                  <a:pt x="1189973" y="150312"/>
                </a:cubicBezTo>
                <a:cubicBezTo>
                  <a:pt x="1179785" y="119749"/>
                  <a:pt x="1176677" y="99438"/>
                  <a:pt x="1152395" y="75156"/>
                </a:cubicBezTo>
                <a:cubicBezTo>
                  <a:pt x="1116972" y="39733"/>
                  <a:pt x="1101478" y="51021"/>
                  <a:pt x="1052186" y="37578"/>
                </a:cubicBezTo>
                <a:cubicBezTo>
                  <a:pt x="900875" y="-3688"/>
                  <a:pt x="1057001" y="23950"/>
                  <a:pt x="889348" y="0"/>
                </a:cubicBezTo>
                <a:cubicBezTo>
                  <a:pt x="876822" y="4175"/>
                  <a:pt x="861106" y="3190"/>
                  <a:pt x="851770" y="12526"/>
                </a:cubicBezTo>
                <a:cubicBezTo>
                  <a:pt x="751271" y="113025"/>
                  <a:pt x="849118" y="71865"/>
                  <a:pt x="764088" y="100208"/>
                </a:cubicBezTo>
                <a:cubicBezTo>
                  <a:pt x="755737" y="112734"/>
                  <a:pt x="750791" y="128382"/>
                  <a:pt x="739036" y="137786"/>
                </a:cubicBezTo>
                <a:cubicBezTo>
                  <a:pt x="728726" y="146034"/>
                  <a:pt x="713268" y="144407"/>
                  <a:pt x="701458" y="150312"/>
                </a:cubicBezTo>
                <a:cubicBezTo>
                  <a:pt x="604332" y="198875"/>
                  <a:pt x="720754" y="156406"/>
                  <a:pt x="626301" y="187890"/>
                </a:cubicBezTo>
                <a:lnTo>
                  <a:pt x="551145" y="237994"/>
                </a:lnTo>
                <a:cubicBezTo>
                  <a:pt x="538619" y="246345"/>
                  <a:pt x="524212" y="252401"/>
                  <a:pt x="513567" y="263046"/>
                </a:cubicBezTo>
                <a:lnTo>
                  <a:pt x="450937" y="325677"/>
                </a:lnTo>
                <a:cubicBezTo>
                  <a:pt x="446762" y="346554"/>
                  <a:pt x="440762" y="367147"/>
                  <a:pt x="438411" y="388307"/>
                </a:cubicBezTo>
                <a:cubicBezTo>
                  <a:pt x="424363" y="514739"/>
                  <a:pt x="439152" y="515271"/>
                  <a:pt x="413359" y="601249"/>
                </a:cubicBezTo>
                <a:cubicBezTo>
                  <a:pt x="405771" y="626542"/>
                  <a:pt x="402955" y="654433"/>
                  <a:pt x="388307" y="676405"/>
                </a:cubicBezTo>
                <a:lnTo>
                  <a:pt x="363255" y="713983"/>
                </a:lnTo>
                <a:cubicBezTo>
                  <a:pt x="335926" y="795973"/>
                  <a:pt x="373883" y="715502"/>
                  <a:pt x="313151" y="764088"/>
                </a:cubicBezTo>
                <a:cubicBezTo>
                  <a:pt x="301396" y="773492"/>
                  <a:pt x="297737" y="790101"/>
                  <a:pt x="288099" y="801666"/>
                </a:cubicBezTo>
                <a:cubicBezTo>
                  <a:pt x="243469" y="855222"/>
                  <a:pt x="262207" y="824885"/>
                  <a:pt x="212943" y="864296"/>
                </a:cubicBezTo>
                <a:cubicBezTo>
                  <a:pt x="179838" y="890779"/>
                  <a:pt x="160689" y="930150"/>
                  <a:pt x="137786" y="964504"/>
                </a:cubicBezTo>
                <a:lnTo>
                  <a:pt x="112734" y="1002082"/>
                </a:lnTo>
                <a:cubicBezTo>
                  <a:pt x="40938" y="1109775"/>
                  <a:pt x="127016" y="973518"/>
                  <a:pt x="75156" y="1077238"/>
                </a:cubicBezTo>
                <a:cubicBezTo>
                  <a:pt x="68423" y="1090703"/>
                  <a:pt x="56218" y="1101059"/>
                  <a:pt x="50104" y="1114816"/>
                </a:cubicBezTo>
                <a:cubicBezTo>
                  <a:pt x="39379" y="1138947"/>
                  <a:pt x="39700" y="1168001"/>
                  <a:pt x="25052" y="1189973"/>
                </a:cubicBezTo>
                <a:lnTo>
                  <a:pt x="0" y="1227551"/>
                </a:lnTo>
              </a:path>
            </a:pathLst>
          </a:custGeom>
          <a:noFill/>
          <a:ln w="63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10" descr="西气东输线路"/>
          <p:cNvPicPr/>
          <p:nvPr/>
        </p:nvPicPr>
        <p:blipFill>
          <a:blip r:embed="rId1"/>
          <a:stretch/>
        </p:blipFill>
        <p:spPr>
          <a:xfrm>
            <a:off x="468360" y="1401840"/>
            <a:ext cx="4648320" cy="3041640"/>
          </a:xfrm>
          <a:prstGeom prst="rect">
            <a:avLst/>
          </a:prstGeom>
          <a:ln w="0">
            <a:noFill/>
          </a:ln>
        </p:spPr>
      </p:pic>
      <p:pic>
        <p:nvPicPr>
          <p:cNvPr id="546" name="内容占位符 3" descr=""/>
          <p:cNvPicPr/>
          <p:nvPr/>
        </p:nvPicPr>
        <p:blipFill>
          <a:blip r:embed="rId2"/>
          <a:srcRect l="0" t="46810" r="0" b="30698"/>
          <a:stretch/>
        </p:blipFill>
        <p:spPr>
          <a:xfrm>
            <a:off x="0" y="0"/>
            <a:ext cx="9177480" cy="915840"/>
          </a:xfrm>
          <a:prstGeom prst="rect">
            <a:avLst/>
          </a:prstGeom>
          <a:ln w="0">
            <a:noFill/>
          </a:ln>
        </p:spPr>
      </p:pic>
      <p:sp>
        <p:nvSpPr>
          <p:cNvPr id="547" name="TextBox 8"/>
          <p:cNvSpPr/>
          <p:nvPr/>
        </p:nvSpPr>
        <p:spPr>
          <a:xfrm>
            <a:off x="4896000" y="960480"/>
            <a:ext cx="4248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幼圆"/>
                <a:ea typeface="幼圆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开发的油气资源运往何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幼圆"/>
                <a:ea typeface="幼圆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油气输送主要采用了什么运输方式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幼圆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</a:rPr>
              <a:t>针对油气资源的输送，国家采取了什么工程措施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Box 2"/>
          <p:cNvSpPr/>
          <p:nvPr/>
        </p:nvSpPr>
        <p:spPr>
          <a:xfrm>
            <a:off x="5904000" y="14050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Arial"/>
              </a:rPr>
              <a:t>我国东部地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Box 12"/>
          <p:cNvSpPr/>
          <p:nvPr/>
        </p:nvSpPr>
        <p:spPr>
          <a:xfrm>
            <a:off x="6227640" y="285264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Arial"/>
              </a:rPr>
              <a:t>管道运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Box 13"/>
          <p:cNvSpPr/>
          <p:nvPr/>
        </p:nvSpPr>
        <p:spPr>
          <a:xfrm>
            <a:off x="6084720" y="4443480"/>
            <a:ext cx="22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Arial"/>
              </a:rPr>
              <a:t>西气东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Group 15"/>
          <p:cNvGrpSpPr/>
          <p:nvPr/>
        </p:nvGrpSpPr>
        <p:grpSpPr>
          <a:xfrm>
            <a:off x="263520" y="1355760"/>
            <a:ext cx="5171760" cy="3514680"/>
            <a:chOff x="263520" y="1355760"/>
            <a:chExt cx="5171760" cy="3514680"/>
          </a:xfrm>
        </p:grpSpPr>
        <p:pic>
          <p:nvPicPr>
            <p:cNvPr id="552" name="Picture 20" descr="6288315455290169"/>
            <p:cNvPicPr/>
            <p:nvPr/>
          </p:nvPicPr>
          <p:blipFill>
            <a:blip r:embed="rId3"/>
            <a:stretch/>
          </p:blipFill>
          <p:spPr>
            <a:xfrm>
              <a:off x="263520" y="1355760"/>
              <a:ext cx="4725000" cy="311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3" name="Text Box 21"/>
            <p:cNvSpPr/>
            <p:nvPr/>
          </p:nvSpPr>
          <p:spPr>
            <a:xfrm>
              <a:off x="827640" y="4471560"/>
              <a:ext cx="460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塔里木盆地油气管道运输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矩形 11"/>
          <p:cNvSpPr/>
          <p:nvPr/>
        </p:nvSpPr>
        <p:spPr>
          <a:xfrm>
            <a:off x="527040" y="-15840"/>
            <a:ext cx="2098800" cy="811080"/>
          </a:xfrm>
          <a:prstGeom prst="rect">
            <a:avLst/>
          </a:prstGeom>
          <a:solidFill>
            <a:srgbClr val="dfe4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矩形 15"/>
          <p:cNvSpPr/>
          <p:nvPr/>
        </p:nvSpPr>
        <p:spPr>
          <a:xfrm>
            <a:off x="436680" y="34920"/>
            <a:ext cx="25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030a0"/>
                </a:solidFill>
                <a:latin typeface="黑体"/>
                <a:ea typeface="黑体"/>
              </a:rPr>
              <a:t>资源开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内容占位符 3" descr=""/>
          <p:cNvPicPr/>
          <p:nvPr/>
        </p:nvPicPr>
        <p:blipFill>
          <a:blip r:embed="rId1"/>
          <a:srcRect l="0" t="46810" r="0" b="30698"/>
          <a:stretch/>
        </p:blipFill>
        <p:spPr>
          <a:xfrm>
            <a:off x="0" y="0"/>
            <a:ext cx="9177480" cy="915840"/>
          </a:xfrm>
          <a:prstGeom prst="rect">
            <a:avLst/>
          </a:prstGeom>
          <a:ln w="0">
            <a:noFill/>
          </a:ln>
        </p:spPr>
      </p:pic>
      <p:pic>
        <p:nvPicPr>
          <p:cNvPr id="557" name="Text Box 8" descr=""/>
          <p:cNvPicPr/>
          <p:nvPr/>
        </p:nvPicPr>
        <p:blipFill>
          <a:blip r:embed="rId2"/>
          <a:stretch/>
        </p:blipFill>
        <p:spPr>
          <a:xfrm>
            <a:off x="23760" y="60480"/>
            <a:ext cx="1933560" cy="841320"/>
          </a:xfrm>
          <a:prstGeom prst="rect">
            <a:avLst/>
          </a:prstGeom>
          <a:ln w="0">
            <a:noFill/>
          </a:ln>
        </p:spPr>
      </p:pic>
      <p:sp>
        <p:nvSpPr>
          <p:cNvPr id="558" name="TextBox 8"/>
          <p:cNvSpPr/>
          <p:nvPr/>
        </p:nvSpPr>
        <p:spPr>
          <a:xfrm>
            <a:off x="5003640" y="1469880"/>
            <a:ext cx="3961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幼圆"/>
                <a:ea typeface="幼圆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西气东输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</a:rPr>
              <a:t>起止点及所穿过的省份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幼圆"/>
                <a:ea typeface="幼圆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西气东输对</a:t>
            </a:r>
            <a:r>
              <a:rPr b="1" lang="zh-CN" sz="2400" spc="-1" strike="noStrike">
                <a:solidFill>
                  <a:srgbClr val="ff0000"/>
                </a:solidFill>
                <a:latin typeface="幼圆"/>
                <a:ea typeface="幼圆"/>
              </a:rPr>
              <a:t>西部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的意义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幼圆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西气东输对</a:t>
            </a:r>
            <a:r>
              <a:rPr b="1" lang="zh-CN" sz="2400" spc="-1" strike="noStrike">
                <a:solidFill>
                  <a:srgbClr val="ff0000"/>
                </a:solidFill>
                <a:latin typeface="幼圆"/>
                <a:ea typeface="幼圆"/>
              </a:rPr>
              <a:t>东部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的意义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10" descr="西气东输线路"/>
          <p:cNvPicPr/>
          <p:nvPr/>
        </p:nvPicPr>
        <p:blipFill>
          <a:blip r:embed="rId3"/>
          <a:stretch/>
        </p:blipFill>
        <p:spPr>
          <a:xfrm>
            <a:off x="468360" y="1401840"/>
            <a:ext cx="4648320" cy="3041640"/>
          </a:xfrm>
          <a:prstGeom prst="rect">
            <a:avLst/>
          </a:prstGeom>
          <a:ln w="0">
            <a:noFill/>
          </a:ln>
        </p:spPr>
      </p:pic>
      <p:sp>
        <p:nvSpPr>
          <p:cNvPr id="560" name="未知"/>
          <p:cNvSpPr/>
          <p:nvPr/>
        </p:nvSpPr>
        <p:spPr>
          <a:xfrm>
            <a:off x="1293840" y="2023920"/>
            <a:ext cx="2522520" cy="1908360"/>
          </a:xfrm>
          <a:custGeom>
            <a:avLst/>
            <a:gdLst/>
            <a:ahLst/>
            <a:rect l="l" t="t" r="r" b="b"/>
            <a:pathLst>
              <a:path w="1589" h="1443">
                <a:moveTo>
                  <a:pt x="1430" y="1443"/>
                </a:moveTo>
                <a:cubicBezTo>
                  <a:pt x="1418" y="1410"/>
                  <a:pt x="1410" y="1383"/>
                  <a:pt x="1450" y="1371"/>
                </a:cubicBezTo>
                <a:cubicBezTo>
                  <a:pt x="1477" y="1342"/>
                  <a:pt x="1496" y="1290"/>
                  <a:pt x="1536" y="1278"/>
                </a:cubicBezTo>
                <a:cubicBezTo>
                  <a:pt x="1545" y="1272"/>
                  <a:pt x="1563" y="1263"/>
                  <a:pt x="1569" y="1251"/>
                </a:cubicBezTo>
                <a:cubicBezTo>
                  <a:pt x="1575" y="1239"/>
                  <a:pt x="1582" y="1212"/>
                  <a:pt x="1582" y="1212"/>
                </a:cubicBezTo>
                <a:cubicBezTo>
                  <a:pt x="1576" y="1114"/>
                  <a:pt x="1589" y="1019"/>
                  <a:pt x="1483" y="987"/>
                </a:cubicBezTo>
                <a:cubicBezTo>
                  <a:pt x="1449" y="950"/>
                  <a:pt x="1409" y="924"/>
                  <a:pt x="1364" y="907"/>
                </a:cubicBezTo>
                <a:cubicBezTo>
                  <a:pt x="1350" y="894"/>
                  <a:pt x="1311" y="881"/>
                  <a:pt x="1311" y="881"/>
                </a:cubicBezTo>
                <a:cubicBezTo>
                  <a:pt x="1294" y="864"/>
                  <a:pt x="1280" y="862"/>
                  <a:pt x="1258" y="854"/>
                </a:cubicBezTo>
                <a:cubicBezTo>
                  <a:pt x="1239" y="836"/>
                  <a:pt x="1213" y="823"/>
                  <a:pt x="1191" y="808"/>
                </a:cubicBezTo>
                <a:cubicBezTo>
                  <a:pt x="1167" y="772"/>
                  <a:pt x="1170" y="719"/>
                  <a:pt x="1138" y="689"/>
                </a:cubicBezTo>
                <a:cubicBezTo>
                  <a:pt x="1124" y="641"/>
                  <a:pt x="1145" y="696"/>
                  <a:pt x="1112" y="656"/>
                </a:cubicBezTo>
                <a:cubicBezTo>
                  <a:pt x="1095" y="635"/>
                  <a:pt x="1108" y="589"/>
                  <a:pt x="1072" y="583"/>
                </a:cubicBezTo>
                <a:cubicBezTo>
                  <a:pt x="1037" y="577"/>
                  <a:pt x="1001" y="578"/>
                  <a:pt x="966" y="576"/>
                </a:cubicBezTo>
                <a:cubicBezTo>
                  <a:pt x="912" y="558"/>
                  <a:pt x="924" y="552"/>
                  <a:pt x="880" y="523"/>
                </a:cubicBezTo>
                <a:cubicBezTo>
                  <a:pt x="866" y="502"/>
                  <a:pt x="839" y="484"/>
                  <a:pt x="814" y="477"/>
                </a:cubicBezTo>
                <a:cubicBezTo>
                  <a:pt x="791" y="442"/>
                  <a:pt x="773" y="417"/>
                  <a:pt x="741" y="391"/>
                </a:cubicBezTo>
                <a:cubicBezTo>
                  <a:pt x="716" y="371"/>
                  <a:pt x="714" y="348"/>
                  <a:pt x="682" y="338"/>
                </a:cubicBezTo>
                <a:cubicBezTo>
                  <a:pt x="660" y="316"/>
                  <a:pt x="653" y="294"/>
                  <a:pt x="622" y="285"/>
                </a:cubicBezTo>
                <a:cubicBezTo>
                  <a:pt x="598" y="269"/>
                  <a:pt x="570" y="255"/>
                  <a:pt x="543" y="245"/>
                </a:cubicBezTo>
                <a:cubicBezTo>
                  <a:pt x="528" y="231"/>
                  <a:pt x="477" y="178"/>
                  <a:pt x="463" y="172"/>
                </a:cubicBezTo>
                <a:cubicBezTo>
                  <a:pt x="422" y="155"/>
                  <a:pt x="373" y="159"/>
                  <a:pt x="331" y="146"/>
                </a:cubicBezTo>
                <a:cubicBezTo>
                  <a:pt x="322" y="137"/>
                  <a:pt x="312" y="129"/>
                  <a:pt x="304" y="119"/>
                </a:cubicBezTo>
                <a:cubicBezTo>
                  <a:pt x="294" y="107"/>
                  <a:pt x="293" y="85"/>
                  <a:pt x="278" y="80"/>
                </a:cubicBezTo>
                <a:cubicBezTo>
                  <a:pt x="230" y="63"/>
                  <a:pt x="188" y="25"/>
                  <a:pt x="139" y="13"/>
                </a:cubicBezTo>
                <a:cubicBezTo>
                  <a:pt x="94" y="2"/>
                  <a:pt x="45" y="0"/>
                  <a:pt x="0" y="0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未知"/>
          <p:cNvSpPr/>
          <p:nvPr/>
        </p:nvSpPr>
        <p:spPr>
          <a:xfrm>
            <a:off x="1387440" y="2251080"/>
            <a:ext cx="2817720" cy="1015920"/>
          </a:xfrm>
          <a:custGeom>
            <a:avLst/>
            <a:gdLst/>
            <a:ahLst/>
            <a:rect l="l" t="t" r="r" b="b"/>
            <a:pathLst>
              <a:path w="1775" h="768">
                <a:moveTo>
                  <a:pt x="1775" y="768"/>
                </a:moveTo>
                <a:cubicBezTo>
                  <a:pt x="1690" y="749"/>
                  <a:pt x="1607" y="714"/>
                  <a:pt x="1523" y="689"/>
                </a:cubicBezTo>
                <a:cubicBezTo>
                  <a:pt x="1491" y="668"/>
                  <a:pt x="1465" y="646"/>
                  <a:pt x="1430" y="629"/>
                </a:cubicBezTo>
                <a:cubicBezTo>
                  <a:pt x="1404" y="616"/>
                  <a:pt x="1376" y="612"/>
                  <a:pt x="1351" y="596"/>
                </a:cubicBezTo>
                <a:cubicBezTo>
                  <a:pt x="1343" y="584"/>
                  <a:pt x="1331" y="575"/>
                  <a:pt x="1324" y="563"/>
                </a:cubicBezTo>
                <a:cubicBezTo>
                  <a:pt x="1317" y="551"/>
                  <a:pt x="1318" y="535"/>
                  <a:pt x="1311" y="523"/>
                </a:cubicBezTo>
                <a:cubicBezTo>
                  <a:pt x="1292" y="489"/>
                  <a:pt x="1291" y="490"/>
                  <a:pt x="1271" y="470"/>
                </a:cubicBezTo>
                <a:cubicBezTo>
                  <a:pt x="1268" y="458"/>
                  <a:pt x="1264" y="438"/>
                  <a:pt x="1252" y="431"/>
                </a:cubicBezTo>
                <a:cubicBezTo>
                  <a:pt x="1176" y="384"/>
                  <a:pt x="980" y="398"/>
                  <a:pt x="940" y="397"/>
                </a:cubicBezTo>
                <a:cubicBezTo>
                  <a:pt x="910" y="392"/>
                  <a:pt x="883" y="387"/>
                  <a:pt x="854" y="378"/>
                </a:cubicBezTo>
                <a:cubicBezTo>
                  <a:pt x="821" y="342"/>
                  <a:pt x="864" y="384"/>
                  <a:pt x="821" y="358"/>
                </a:cubicBezTo>
                <a:cubicBezTo>
                  <a:pt x="801" y="346"/>
                  <a:pt x="792" y="332"/>
                  <a:pt x="768" y="325"/>
                </a:cubicBezTo>
                <a:cubicBezTo>
                  <a:pt x="747" y="302"/>
                  <a:pt x="748" y="282"/>
                  <a:pt x="715" y="272"/>
                </a:cubicBezTo>
                <a:cubicBezTo>
                  <a:pt x="711" y="267"/>
                  <a:pt x="707" y="261"/>
                  <a:pt x="702" y="258"/>
                </a:cubicBezTo>
                <a:cubicBezTo>
                  <a:pt x="696" y="254"/>
                  <a:pt x="687" y="257"/>
                  <a:pt x="682" y="252"/>
                </a:cubicBezTo>
                <a:cubicBezTo>
                  <a:pt x="677" y="247"/>
                  <a:pt x="681" y="237"/>
                  <a:pt x="676" y="232"/>
                </a:cubicBezTo>
                <a:cubicBezTo>
                  <a:pt x="671" y="227"/>
                  <a:pt x="662" y="228"/>
                  <a:pt x="656" y="225"/>
                </a:cubicBezTo>
                <a:cubicBezTo>
                  <a:pt x="642" y="217"/>
                  <a:pt x="616" y="199"/>
                  <a:pt x="616" y="199"/>
                </a:cubicBezTo>
                <a:cubicBezTo>
                  <a:pt x="606" y="172"/>
                  <a:pt x="583" y="154"/>
                  <a:pt x="556" y="146"/>
                </a:cubicBezTo>
                <a:cubicBezTo>
                  <a:pt x="550" y="124"/>
                  <a:pt x="521" y="97"/>
                  <a:pt x="503" y="80"/>
                </a:cubicBezTo>
                <a:cubicBezTo>
                  <a:pt x="487" y="27"/>
                  <a:pt x="467" y="17"/>
                  <a:pt x="417" y="0"/>
                </a:cubicBezTo>
                <a:cubicBezTo>
                  <a:pt x="124" y="9"/>
                  <a:pt x="263" y="7"/>
                  <a:pt x="0" y="7"/>
                </a:cubicBez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圆角矩形标注 12"/>
          <p:cNvSpPr/>
          <p:nvPr/>
        </p:nvSpPr>
        <p:spPr>
          <a:xfrm>
            <a:off x="584280" y="1401840"/>
            <a:ext cx="1782720" cy="379440"/>
          </a:xfrm>
          <a:prstGeom prst="wedgeRoundRectCallout">
            <a:avLst>
              <a:gd name="adj1" fmla="val -12453"/>
              <a:gd name="adj2" fmla="val 127166"/>
              <a:gd name="adj3" fmla="val 16667"/>
            </a:avLst>
          </a:prstGeom>
          <a:solidFill>
            <a:srgbClr val="ecdbdb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Palatino Linotype"/>
              </a:rPr>
              <a:t>霍尔果斯口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圆角矩形标注 13"/>
          <p:cNvSpPr/>
          <p:nvPr/>
        </p:nvSpPr>
        <p:spPr>
          <a:xfrm>
            <a:off x="584280" y="2508120"/>
            <a:ext cx="1573200" cy="414360"/>
          </a:xfrm>
          <a:prstGeom prst="wedgeRoundRectCallout">
            <a:avLst>
              <a:gd name="adj1" fmla="val -546"/>
              <a:gd name="adj2" fmla="val -99162"/>
              <a:gd name="adj3" fmla="val 16667"/>
            </a:avLst>
          </a:prstGeom>
          <a:solidFill>
            <a:srgbClr val="dfe4f0"/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Palatino Linotype"/>
              </a:rPr>
              <a:t>轮南油气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圆角矩形标注 14"/>
          <p:cNvSpPr/>
          <p:nvPr/>
        </p:nvSpPr>
        <p:spPr>
          <a:xfrm>
            <a:off x="3132000" y="4192560"/>
            <a:ext cx="889200" cy="503280"/>
          </a:xfrm>
          <a:prstGeom prst="wedgeRoundRectCallout">
            <a:avLst>
              <a:gd name="adj1" fmla="val -546"/>
              <a:gd name="adj2" fmla="val -99162"/>
              <a:gd name="adj3" fmla="val 16667"/>
            </a:avLst>
          </a:prstGeom>
          <a:solidFill>
            <a:srgbClr val="ecdbdb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Palatino Linotype"/>
              </a:rPr>
              <a:t>广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圆角矩形标注 15"/>
          <p:cNvSpPr/>
          <p:nvPr/>
        </p:nvSpPr>
        <p:spPr>
          <a:xfrm>
            <a:off x="3718080" y="2490840"/>
            <a:ext cx="890280" cy="503280"/>
          </a:xfrm>
          <a:prstGeom prst="wedgeRoundRectCallout">
            <a:avLst>
              <a:gd name="adj1" fmla="val 3675"/>
              <a:gd name="adj2" fmla="val 94828"/>
              <a:gd name="adj3" fmla="val 16667"/>
            </a:avLst>
          </a:prstGeom>
          <a:solidFill>
            <a:srgbClr val="cfdcf0"/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Palatino Linotype"/>
              </a:rPr>
              <a:t>上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32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2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8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32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3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4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33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3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内容占位符 3" descr=""/>
          <p:cNvPicPr/>
          <p:nvPr/>
        </p:nvPicPr>
        <p:blipFill>
          <a:blip r:embed="rId1"/>
          <a:srcRect l="0" t="46810" r="0" b="30698"/>
          <a:stretch/>
        </p:blipFill>
        <p:spPr>
          <a:xfrm>
            <a:off x="0" y="0"/>
            <a:ext cx="9177480" cy="915840"/>
          </a:xfrm>
          <a:prstGeom prst="rect">
            <a:avLst/>
          </a:prstGeom>
          <a:ln w="0">
            <a:noFill/>
          </a:ln>
        </p:spPr>
      </p:pic>
      <p:pic>
        <p:nvPicPr>
          <p:cNvPr id="567" name="Text Box 8" descr=""/>
          <p:cNvPicPr/>
          <p:nvPr/>
        </p:nvPicPr>
        <p:blipFill>
          <a:blip r:embed="rId2"/>
          <a:stretch/>
        </p:blipFill>
        <p:spPr>
          <a:xfrm>
            <a:off x="23760" y="60480"/>
            <a:ext cx="1933560" cy="841320"/>
          </a:xfrm>
          <a:prstGeom prst="rect">
            <a:avLst/>
          </a:prstGeom>
          <a:ln w="0">
            <a:noFill/>
          </a:ln>
        </p:spPr>
      </p:pic>
      <p:sp>
        <p:nvSpPr>
          <p:cNvPr id="568" name="TextBox 1"/>
          <p:cNvSpPr/>
          <p:nvPr/>
        </p:nvSpPr>
        <p:spPr>
          <a:xfrm>
            <a:off x="1442880" y="1114560"/>
            <a:ext cx="152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f5897"/>
                </a:solidFill>
                <a:latin typeface="幼圆"/>
                <a:ea typeface="幼圆"/>
              </a:rPr>
              <a:t>西部地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8"/>
          <p:cNvSpPr/>
          <p:nvPr/>
        </p:nvSpPr>
        <p:spPr>
          <a:xfrm>
            <a:off x="6012000" y="1114560"/>
            <a:ext cx="147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f5897"/>
                </a:solidFill>
                <a:latin typeface="幼圆"/>
                <a:ea typeface="幼圆"/>
              </a:rPr>
              <a:t>东部地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图示 2" descr=""/>
          <p:cNvPicPr/>
          <p:nvPr/>
        </p:nvPicPr>
        <p:blipFill>
          <a:blip r:embed="rId3"/>
          <a:stretch/>
        </p:blipFill>
        <p:spPr>
          <a:xfrm>
            <a:off x="646200" y="1706400"/>
            <a:ext cx="3852720" cy="2664000"/>
          </a:xfrm>
          <a:prstGeom prst="rect">
            <a:avLst/>
          </a:prstGeom>
          <a:ln w="0">
            <a:noFill/>
          </a:ln>
        </p:spPr>
      </p:pic>
      <p:pic>
        <p:nvPicPr>
          <p:cNvPr id="571" name="图示 13" descr=""/>
          <p:cNvPicPr/>
          <p:nvPr/>
        </p:nvPicPr>
        <p:blipFill>
          <a:blip r:embed="rId4"/>
          <a:stretch/>
        </p:blipFill>
        <p:spPr>
          <a:xfrm>
            <a:off x="5181480" y="1706400"/>
            <a:ext cx="3853080" cy="2664000"/>
          </a:xfrm>
          <a:prstGeom prst="rect">
            <a:avLst/>
          </a:prstGeom>
          <a:ln w="0">
            <a:noFill/>
          </a:ln>
        </p:spPr>
      </p:pic>
      <p:sp>
        <p:nvSpPr>
          <p:cNvPr id="572" name="TextBox 14"/>
          <p:cNvSpPr/>
          <p:nvPr/>
        </p:nvSpPr>
        <p:spPr>
          <a:xfrm>
            <a:off x="2968560" y="108900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幼圆"/>
                <a:ea typeface="幼圆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幼圆"/>
                <a:ea typeface="幼圆"/>
              </a:rPr>
              <a:t>共同发展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84" dur="2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内容占位符 3" descr=""/>
          <p:cNvPicPr/>
          <p:nvPr/>
        </p:nvPicPr>
        <p:blipFill>
          <a:blip r:embed="rId1"/>
          <a:srcRect l="0" t="46810" r="0" b="30698"/>
          <a:stretch/>
        </p:blipFill>
        <p:spPr>
          <a:xfrm>
            <a:off x="0" y="0"/>
            <a:ext cx="9177480" cy="915840"/>
          </a:xfrm>
          <a:prstGeom prst="rect">
            <a:avLst/>
          </a:prstGeom>
          <a:ln w="0">
            <a:noFill/>
          </a:ln>
        </p:spPr>
      </p:pic>
      <p:pic>
        <p:nvPicPr>
          <p:cNvPr id="574" name="Text Box 8" descr=""/>
          <p:cNvPicPr/>
          <p:nvPr/>
        </p:nvPicPr>
        <p:blipFill>
          <a:blip r:embed="rId2"/>
          <a:stretch/>
        </p:blipFill>
        <p:spPr>
          <a:xfrm>
            <a:off x="23760" y="60480"/>
            <a:ext cx="1933560" cy="841320"/>
          </a:xfrm>
          <a:prstGeom prst="rect">
            <a:avLst/>
          </a:prstGeom>
          <a:ln w="0">
            <a:noFill/>
          </a:ln>
        </p:spPr>
      </p:pic>
      <p:pic>
        <p:nvPicPr>
          <p:cNvPr id="575" name="矩形 4" descr=""/>
          <p:cNvPicPr/>
          <p:nvPr/>
        </p:nvPicPr>
        <p:blipFill>
          <a:blip r:embed="rId3"/>
          <a:stretch/>
        </p:blipFill>
        <p:spPr>
          <a:xfrm>
            <a:off x="738360" y="1884240"/>
            <a:ext cx="7704000" cy="11638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内容占位符 3" descr=""/>
          <p:cNvPicPr/>
          <p:nvPr/>
        </p:nvPicPr>
        <p:blipFill>
          <a:blip r:embed="rId1"/>
          <a:srcRect l="0" t="46810" r="0" b="30698"/>
          <a:stretch/>
        </p:blipFill>
        <p:spPr>
          <a:xfrm>
            <a:off x="0" y="0"/>
            <a:ext cx="9177480" cy="915840"/>
          </a:xfrm>
          <a:prstGeom prst="rect">
            <a:avLst/>
          </a:prstGeom>
          <a:ln w="0">
            <a:noFill/>
          </a:ln>
        </p:spPr>
      </p:pic>
      <p:pic>
        <p:nvPicPr>
          <p:cNvPr id="577" name="图片 7" descr=""/>
          <p:cNvPicPr/>
          <p:nvPr/>
        </p:nvPicPr>
        <p:blipFill>
          <a:blip r:embed="rId2"/>
          <a:stretch/>
        </p:blipFill>
        <p:spPr>
          <a:xfrm>
            <a:off x="157320" y="1347840"/>
            <a:ext cx="4295520" cy="2857320"/>
          </a:xfrm>
          <a:prstGeom prst="rect">
            <a:avLst/>
          </a:prstGeom>
          <a:ln w="0">
            <a:noFill/>
          </a:ln>
        </p:spPr>
      </p:pic>
      <p:pic>
        <p:nvPicPr>
          <p:cNvPr id="578" name="图片 10" descr=""/>
          <p:cNvPicPr/>
          <p:nvPr/>
        </p:nvPicPr>
        <p:blipFill>
          <a:blip r:embed="rId3"/>
          <a:stretch/>
        </p:blipFill>
        <p:spPr>
          <a:xfrm>
            <a:off x="4600440" y="1347840"/>
            <a:ext cx="4211640" cy="2857320"/>
          </a:xfrm>
          <a:prstGeom prst="rect">
            <a:avLst/>
          </a:prstGeom>
          <a:ln w="0">
            <a:noFill/>
          </a:ln>
        </p:spPr>
      </p:pic>
      <p:sp>
        <p:nvSpPr>
          <p:cNvPr id="579" name="矩形 7"/>
          <p:cNvSpPr/>
          <p:nvPr/>
        </p:nvSpPr>
        <p:spPr>
          <a:xfrm>
            <a:off x="527040" y="-15840"/>
            <a:ext cx="1170000" cy="811080"/>
          </a:xfrm>
          <a:prstGeom prst="rect">
            <a:avLst/>
          </a:prstGeom>
          <a:solidFill>
            <a:srgbClr val="dfe4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矩形 8"/>
          <p:cNvSpPr/>
          <p:nvPr/>
        </p:nvSpPr>
        <p:spPr>
          <a:xfrm>
            <a:off x="436680" y="34920"/>
            <a:ext cx="25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030a0"/>
                </a:solidFill>
                <a:latin typeface="黑体"/>
                <a:ea typeface="黑体"/>
              </a:rPr>
              <a:t>措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Box 9"/>
          <p:cNvSpPr/>
          <p:nvPr/>
        </p:nvSpPr>
        <p:spPr>
          <a:xfrm>
            <a:off x="2556000" y="4300560"/>
            <a:ext cx="524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幼圆"/>
                <a:ea typeface="幼圆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幼圆"/>
                <a:ea typeface="幼圆"/>
              </a:rPr>
              <a:t>人与自然和谐相处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2" name="直接箭头连接符 2"/>
          <p:cNvCxnSpPr/>
          <p:nvPr/>
        </p:nvCxnSpPr>
        <p:spPr>
          <a:xfrm>
            <a:off x="971280" y="3507840"/>
            <a:ext cx="2161080" cy="1080"/>
          </a:xfrm>
          <a:prstGeom prst="straightConnector1">
            <a:avLst/>
          </a:prstGeom>
          <a:ln w="63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3" name="TextBox 13"/>
          <p:cNvSpPr/>
          <p:nvPr/>
        </p:nvSpPr>
        <p:spPr>
          <a:xfrm>
            <a:off x="1476360" y="286236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幼圆"/>
                <a:ea typeface="幼圆"/>
              </a:rPr>
              <a:t>28</a:t>
            </a:r>
            <a:r>
              <a:rPr b="1" lang="zh-CN" sz="3600" spc="-1" strike="noStrike">
                <a:solidFill>
                  <a:srgbClr val="ff0000"/>
                </a:solidFill>
                <a:latin typeface="幼圆"/>
                <a:ea typeface="幼圆"/>
              </a:rPr>
              <a:t>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Box 14"/>
          <p:cNvSpPr/>
          <p:nvPr/>
        </p:nvSpPr>
        <p:spPr>
          <a:xfrm>
            <a:off x="6292800" y="3559320"/>
            <a:ext cx="2519280" cy="642600"/>
          </a:xfrm>
          <a:prstGeom prst="rect">
            <a:avLst/>
          </a:prstGeom>
          <a:solidFill>
            <a:srgbClr val="c8cc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幼圆"/>
                <a:ea typeface="幼圆"/>
              </a:rPr>
              <a:t>土石方回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14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内容占位符 3" descr=""/>
          <p:cNvPicPr/>
          <p:nvPr/>
        </p:nvPicPr>
        <p:blipFill>
          <a:blip r:embed="rId1"/>
          <a:srcRect l="0" t="46810" r="0" b="30698"/>
          <a:stretch/>
        </p:blipFill>
        <p:spPr>
          <a:xfrm>
            <a:off x="0" y="0"/>
            <a:ext cx="9177480" cy="915840"/>
          </a:xfrm>
          <a:prstGeom prst="rect">
            <a:avLst/>
          </a:prstGeom>
          <a:ln w="0">
            <a:noFill/>
          </a:ln>
        </p:spPr>
      </p:pic>
      <p:pic>
        <p:nvPicPr>
          <p:cNvPr id="586" name="Text Box 8" descr=""/>
          <p:cNvPicPr/>
          <p:nvPr/>
        </p:nvPicPr>
        <p:blipFill>
          <a:blip r:embed="rId2"/>
          <a:stretch/>
        </p:blipFill>
        <p:spPr>
          <a:xfrm>
            <a:off x="23760" y="60480"/>
            <a:ext cx="1933560" cy="841320"/>
          </a:xfrm>
          <a:prstGeom prst="rect">
            <a:avLst/>
          </a:prstGeom>
          <a:ln w="0">
            <a:noFill/>
          </a:ln>
        </p:spPr>
      </p:pic>
      <p:pic>
        <p:nvPicPr>
          <p:cNvPr id="587" name="矩形 3" descr=""/>
          <p:cNvPicPr/>
          <p:nvPr/>
        </p:nvPicPr>
        <p:blipFill>
          <a:blip r:embed="rId3"/>
          <a:stretch/>
        </p:blipFill>
        <p:spPr>
          <a:xfrm>
            <a:off x="738360" y="1884240"/>
            <a:ext cx="7704000" cy="11638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Picture 5" descr="u=3450514748,3535315272&amp;fm=23&amp;gp=0[1]"/>
          <p:cNvPicPr/>
          <p:nvPr/>
        </p:nvPicPr>
        <p:blipFill>
          <a:blip r:embed="rId1"/>
          <a:stretch/>
        </p:blipFill>
        <p:spPr>
          <a:xfrm>
            <a:off x="0" y="2571840"/>
            <a:ext cx="1838160" cy="1263600"/>
          </a:xfrm>
          <a:prstGeom prst="rect">
            <a:avLst/>
          </a:prstGeom>
          <a:ln w="0">
            <a:noFill/>
          </a:ln>
        </p:spPr>
      </p:pic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-1260360" y="842760"/>
            <a:ext cx="912168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Palatino Linotype"/>
              </a:rPr>
              <a:t>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Palatino Linotype"/>
              </a:rPr>
              <a:t>第二节</a:t>
            </a:r>
            <a:r>
              <a:rPr b="1" lang="zh-CN" sz="2800" spc="-1" strike="noStrike">
                <a:solidFill>
                  <a:srgbClr val="000000"/>
                </a:solidFill>
                <a:latin typeface="Palatino Linotype"/>
              </a:rPr>
              <a:t>  干旱的宝地</a:t>
            </a:r>
            <a:r>
              <a:rPr b="1" lang="en-US" sz="2800" spc="-1" strike="noStrike">
                <a:solidFill>
                  <a:srgbClr val="000000"/>
                </a:solidFill>
                <a:latin typeface="Palatino Linotype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Palatino Linotype"/>
              </a:rPr>
              <a:t>塔里木盆地</a:t>
            </a:r>
            <a:endParaRPr b="0" lang="en-US" sz="28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461" name="矩形 7" descr=""/>
          <p:cNvPicPr/>
          <p:nvPr/>
        </p:nvPicPr>
        <p:blipFill>
          <a:blip r:embed="rId2"/>
          <a:stretch/>
        </p:blipFill>
        <p:spPr>
          <a:xfrm>
            <a:off x="682560" y="689040"/>
            <a:ext cx="7712280" cy="1163520"/>
          </a:xfrm>
          <a:prstGeom prst="rect">
            <a:avLst/>
          </a:prstGeom>
          <a:ln w="0">
            <a:noFill/>
          </a:ln>
        </p:spPr>
      </p:pic>
      <p:pic>
        <p:nvPicPr>
          <p:cNvPr id="462" name="图片 2" descr=""/>
          <p:cNvPicPr/>
          <p:nvPr/>
        </p:nvPicPr>
        <p:blipFill>
          <a:blip r:embed="rId3"/>
          <a:stretch/>
        </p:blipFill>
        <p:spPr>
          <a:xfrm>
            <a:off x="1770120" y="3835440"/>
            <a:ext cx="1911240" cy="1278000"/>
          </a:xfrm>
          <a:prstGeom prst="rect">
            <a:avLst/>
          </a:prstGeom>
          <a:ln w="0">
            <a:noFill/>
          </a:ln>
        </p:spPr>
      </p:pic>
      <p:pic>
        <p:nvPicPr>
          <p:cNvPr id="463" name="图片 4" descr=""/>
          <p:cNvPicPr/>
          <p:nvPr/>
        </p:nvPicPr>
        <p:blipFill>
          <a:blip r:embed="rId4"/>
          <a:stretch/>
        </p:blipFill>
        <p:spPr>
          <a:xfrm>
            <a:off x="7294680" y="2571840"/>
            <a:ext cx="1873080" cy="1263600"/>
          </a:xfrm>
          <a:prstGeom prst="rect">
            <a:avLst/>
          </a:prstGeom>
          <a:ln w="0">
            <a:noFill/>
          </a:ln>
        </p:spPr>
      </p:pic>
      <p:pic>
        <p:nvPicPr>
          <p:cNvPr id="464" name="图片 6" descr=""/>
          <p:cNvPicPr/>
          <p:nvPr/>
        </p:nvPicPr>
        <p:blipFill>
          <a:blip r:embed="rId5"/>
          <a:stretch/>
        </p:blipFill>
        <p:spPr>
          <a:xfrm>
            <a:off x="5470560" y="3867120"/>
            <a:ext cx="1838160" cy="1263600"/>
          </a:xfrm>
          <a:prstGeom prst="rect">
            <a:avLst/>
          </a:prstGeom>
          <a:ln w="0">
            <a:noFill/>
          </a:ln>
        </p:spPr>
      </p:pic>
      <p:pic>
        <p:nvPicPr>
          <p:cNvPr id="465" name="图片 9" descr=""/>
          <p:cNvPicPr/>
          <p:nvPr/>
        </p:nvPicPr>
        <p:blipFill>
          <a:blip r:embed="rId6"/>
          <a:stretch/>
        </p:blipFill>
        <p:spPr>
          <a:xfrm>
            <a:off x="3652920" y="2581200"/>
            <a:ext cx="1838160" cy="1262160"/>
          </a:xfrm>
          <a:prstGeom prst="rect">
            <a:avLst/>
          </a:prstGeom>
          <a:ln w="0">
            <a:noFill/>
          </a:ln>
        </p:spPr>
      </p:pic>
      <p:sp>
        <p:nvSpPr>
          <p:cNvPr id="466" name="直接连接符 12"/>
          <p:cNvSpPr/>
          <p:nvPr/>
        </p:nvSpPr>
        <p:spPr>
          <a:xfrm>
            <a:off x="0" y="2571840"/>
            <a:ext cx="9144000" cy="0"/>
          </a:xfrm>
          <a:prstGeom prst="line">
            <a:avLst/>
          </a:prstGeom>
          <a:ln w="9360">
            <a:solidFill>
              <a:srgbClr val="5c7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内容占位符 3" descr=""/>
          <p:cNvPicPr/>
          <p:nvPr/>
        </p:nvPicPr>
        <p:blipFill>
          <a:blip r:embed="rId1"/>
          <a:srcRect l="0" t="46810" r="0" b="30698"/>
          <a:stretch/>
        </p:blipFill>
        <p:spPr>
          <a:xfrm>
            <a:off x="0" y="0"/>
            <a:ext cx="9177480" cy="91584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4" descr="塔里木盆地的地形"/>
          <p:cNvPicPr/>
          <p:nvPr/>
        </p:nvPicPr>
        <p:blipFill>
          <a:blip r:embed="rId2"/>
          <a:stretch/>
        </p:blipFill>
        <p:spPr>
          <a:xfrm>
            <a:off x="4284720" y="1300320"/>
            <a:ext cx="4032360" cy="234792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13" descr="地形图1"/>
          <p:cNvPicPr/>
          <p:nvPr/>
        </p:nvPicPr>
        <p:blipFill>
          <a:blip r:embed="rId3"/>
          <a:srcRect l="10573" t="0" r="7672" b="2315"/>
          <a:stretch/>
        </p:blipFill>
        <p:spPr>
          <a:xfrm>
            <a:off x="395280" y="930240"/>
            <a:ext cx="3452760" cy="2863800"/>
          </a:xfrm>
          <a:prstGeom prst="rect">
            <a:avLst/>
          </a:prstGeom>
          <a:ln w="0">
            <a:noFill/>
          </a:ln>
        </p:spPr>
      </p:pic>
      <p:sp>
        <p:nvSpPr>
          <p:cNvPr id="470" name="Text Box 3"/>
          <p:cNvSpPr/>
          <p:nvPr/>
        </p:nvSpPr>
        <p:spPr>
          <a:xfrm>
            <a:off x="420840" y="3821040"/>
            <a:ext cx="890424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位于我国新疆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__________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__________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之间，是我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__________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盆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任意多边形 4"/>
          <p:cNvSpPr/>
          <p:nvPr/>
        </p:nvSpPr>
        <p:spPr>
          <a:xfrm>
            <a:off x="512640" y="1800360"/>
            <a:ext cx="855720" cy="406440"/>
          </a:xfrm>
          <a:custGeom>
            <a:avLst/>
            <a:gdLst/>
            <a:ahLst/>
            <a:rect l="l" t="t" r="r" b="b"/>
            <a:pathLst>
              <a:path w="856341" h="406763">
                <a:moveTo>
                  <a:pt x="2253" y="57150"/>
                </a:moveTo>
                <a:cubicBezTo>
                  <a:pt x="11249" y="54504"/>
                  <a:pt x="46755" y="55823"/>
                  <a:pt x="68928" y="53975"/>
                </a:cubicBezTo>
                <a:cubicBezTo>
                  <a:pt x="72263" y="53697"/>
                  <a:pt x="75106" y="50800"/>
                  <a:pt x="78453" y="50800"/>
                </a:cubicBezTo>
                <a:cubicBezTo>
                  <a:pt x="88037" y="50800"/>
                  <a:pt x="97503" y="52917"/>
                  <a:pt x="107028" y="53975"/>
                </a:cubicBezTo>
                <a:cubicBezTo>
                  <a:pt x="110203" y="55033"/>
                  <a:pt x="113206" y="57150"/>
                  <a:pt x="116553" y="57150"/>
                </a:cubicBezTo>
                <a:cubicBezTo>
                  <a:pt x="164190" y="57150"/>
                  <a:pt x="211873" y="56772"/>
                  <a:pt x="259428" y="53975"/>
                </a:cubicBezTo>
                <a:cubicBezTo>
                  <a:pt x="266110" y="53582"/>
                  <a:pt x="271914" y="48938"/>
                  <a:pt x="278478" y="47625"/>
                </a:cubicBezTo>
                <a:cubicBezTo>
                  <a:pt x="283770" y="46567"/>
                  <a:pt x="289147" y="45870"/>
                  <a:pt x="294353" y="44450"/>
                </a:cubicBezTo>
                <a:cubicBezTo>
                  <a:pt x="300811" y="42689"/>
                  <a:pt x="307053" y="40217"/>
                  <a:pt x="313403" y="38100"/>
                </a:cubicBezTo>
                <a:cubicBezTo>
                  <a:pt x="316578" y="37042"/>
                  <a:pt x="320143" y="36781"/>
                  <a:pt x="322928" y="34925"/>
                </a:cubicBezTo>
                <a:cubicBezTo>
                  <a:pt x="329278" y="30692"/>
                  <a:pt x="334738" y="24638"/>
                  <a:pt x="341978" y="22225"/>
                </a:cubicBezTo>
                <a:cubicBezTo>
                  <a:pt x="348328" y="20108"/>
                  <a:pt x="354362" y="16481"/>
                  <a:pt x="361028" y="15875"/>
                </a:cubicBezTo>
                <a:cubicBezTo>
                  <a:pt x="373277" y="14761"/>
                  <a:pt x="400441" y="13166"/>
                  <a:pt x="415003" y="9525"/>
                </a:cubicBezTo>
                <a:cubicBezTo>
                  <a:pt x="421497" y="7902"/>
                  <a:pt x="427703" y="5292"/>
                  <a:pt x="434053" y="3175"/>
                </a:cubicBezTo>
                <a:lnTo>
                  <a:pt x="443578" y="0"/>
                </a:lnTo>
                <a:cubicBezTo>
                  <a:pt x="453103" y="1058"/>
                  <a:pt x="462681" y="1718"/>
                  <a:pt x="472153" y="3175"/>
                </a:cubicBezTo>
                <a:cubicBezTo>
                  <a:pt x="481064" y="4546"/>
                  <a:pt x="496486" y="10228"/>
                  <a:pt x="503903" y="12700"/>
                </a:cubicBezTo>
                <a:lnTo>
                  <a:pt x="570578" y="34925"/>
                </a:lnTo>
                <a:lnTo>
                  <a:pt x="599153" y="44450"/>
                </a:lnTo>
                <a:cubicBezTo>
                  <a:pt x="602328" y="45508"/>
                  <a:pt x="605431" y="46813"/>
                  <a:pt x="608678" y="47625"/>
                </a:cubicBezTo>
                <a:cubicBezTo>
                  <a:pt x="611667" y="48372"/>
                  <a:pt x="627176" y="51905"/>
                  <a:pt x="630903" y="53975"/>
                </a:cubicBezTo>
                <a:cubicBezTo>
                  <a:pt x="637574" y="57681"/>
                  <a:pt x="643603" y="62442"/>
                  <a:pt x="649953" y="66675"/>
                </a:cubicBezTo>
                <a:cubicBezTo>
                  <a:pt x="653128" y="68792"/>
                  <a:pt x="656780" y="70327"/>
                  <a:pt x="659478" y="73025"/>
                </a:cubicBezTo>
                <a:cubicBezTo>
                  <a:pt x="665828" y="79375"/>
                  <a:pt x="671056" y="87094"/>
                  <a:pt x="678528" y="92075"/>
                </a:cubicBezTo>
                <a:lnTo>
                  <a:pt x="697578" y="104775"/>
                </a:lnTo>
                <a:cubicBezTo>
                  <a:pt x="709311" y="122374"/>
                  <a:pt x="697215" y="108454"/>
                  <a:pt x="713453" y="117475"/>
                </a:cubicBezTo>
                <a:cubicBezTo>
                  <a:pt x="720124" y="121181"/>
                  <a:pt x="726153" y="125942"/>
                  <a:pt x="732503" y="130175"/>
                </a:cubicBezTo>
                <a:cubicBezTo>
                  <a:pt x="735678" y="132292"/>
                  <a:pt x="738326" y="135600"/>
                  <a:pt x="742028" y="136525"/>
                </a:cubicBezTo>
                <a:cubicBezTo>
                  <a:pt x="746261" y="137583"/>
                  <a:pt x="750548" y="138446"/>
                  <a:pt x="754728" y="139700"/>
                </a:cubicBezTo>
                <a:cubicBezTo>
                  <a:pt x="777341" y="146484"/>
                  <a:pt x="767660" y="145043"/>
                  <a:pt x="786478" y="149225"/>
                </a:cubicBezTo>
                <a:cubicBezTo>
                  <a:pt x="813404" y="155209"/>
                  <a:pt x="791667" y="148838"/>
                  <a:pt x="821403" y="158750"/>
                </a:cubicBezTo>
                <a:lnTo>
                  <a:pt x="830928" y="161925"/>
                </a:lnTo>
                <a:cubicBezTo>
                  <a:pt x="834103" y="162983"/>
                  <a:pt x="837668" y="163244"/>
                  <a:pt x="840453" y="165100"/>
                </a:cubicBezTo>
                <a:lnTo>
                  <a:pt x="849978" y="171450"/>
                </a:lnTo>
                <a:cubicBezTo>
                  <a:pt x="852095" y="174625"/>
                  <a:pt x="855855" y="177189"/>
                  <a:pt x="856328" y="180975"/>
                </a:cubicBezTo>
                <a:cubicBezTo>
                  <a:pt x="856615" y="183273"/>
                  <a:pt x="852305" y="202186"/>
                  <a:pt x="849978" y="206375"/>
                </a:cubicBezTo>
                <a:cubicBezTo>
                  <a:pt x="846272" y="213046"/>
                  <a:pt x="839691" y="218185"/>
                  <a:pt x="837278" y="225425"/>
                </a:cubicBezTo>
                <a:cubicBezTo>
                  <a:pt x="834696" y="233172"/>
                  <a:pt x="833908" y="238320"/>
                  <a:pt x="827753" y="244475"/>
                </a:cubicBezTo>
                <a:cubicBezTo>
                  <a:pt x="825055" y="247173"/>
                  <a:pt x="821403" y="248708"/>
                  <a:pt x="818228" y="250825"/>
                </a:cubicBezTo>
                <a:cubicBezTo>
                  <a:pt x="814919" y="260751"/>
                  <a:pt x="811711" y="273162"/>
                  <a:pt x="802353" y="279400"/>
                </a:cubicBezTo>
                <a:lnTo>
                  <a:pt x="792828" y="285750"/>
                </a:lnTo>
                <a:cubicBezTo>
                  <a:pt x="788595" y="292100"/>
                  <a:pt x="787368" y="302387"/>
                  <a:pt x="780128" y="304800"/>
                </a:cubicBezTo>
                <a:lnTo>
                  <a:pt x="761078" y="311150"/>
                </a:lnTo>
                <a:cubicBezTo>
                  <a:pt x="757903" y="312208"/>
                  <a:pt x="754883" y="313992"/>
                  <a:pt x="751553" y="314325"/>
                </a:cubicBezTo>
                <a:lnTo>
                  <a:pt x="719803" y="317500"/>
                </a:lnTo>
                <a:lnTo>
                  <a:pt x="672178" y="333375"/>
                </a:lnTo>
                <a:lnTo>
                  <a:pt x="662653" y="336550"/>
                </a:lnTo>
                <a:cubicBezTo>
                  <a:pt x="659478" y="337608"/>
                  <a:pt x="655913" y="337869"/>
                  <a:pt x="653128" y="339725"/>
                </a:cubicBezTo>
                <a:cubicBezTo>
                  <a:pt x="649953" y="341842"/>
                  <a:pt x="647016" y="344368"/>
                  <a:pt x="643603" y="346075"/>
                </a:cubicBezTo>
                <a:cubicBezTo>
                  <a:pt x="640610" y="347572"/>
                  <a:pt x="637004" y="347625"/>
                  <a:pt x="634078" y="349250"/>
                </a:cubicBezTo>
                <a:lnTo>
                  <a:pt x="605503" y="368300"/>
                </a:lnTo>
                <a:cubicBezTo>
                  <a:pt x="602328" y="370417"/>
                  <a:pt x="599598" y="373443"/>
                  <a:pt x="595978" y="374650"/>
                </a:cubicBezTo>
                <a:lnTo>
                  <a:pt x="557878" y="387350"/>
                </a:lnTo>
                <a:lnTo>
                  <a:pt x="548353" y="390525"/>
                </a:lnTo>
                <a:cubicBezTo>
                  <a:pt x="545178" y="391583"/>
                  <a:pt x="542171" y="393548"/>
                  <a:pt x="538828" y="393700"/>
                </a:cubicBezTo>
                <a:lnTo>
                  <a:pt x="468978" y="396875"/>
                </a:lnTo>
                <a:cubicBezTo>
                  <a:pt x="465803" y="397933"/>
                  <a:pt x="462700" y="399238"/>
                  <a:pt x="459453" y="400050"/>
                </a:cubicBezTo>
                <a:cubicBezTo>
                  <a:pt x="438542" y="405278"/>
                  <a:pt x="427236" y="404482"/>
                  <a:pt x="402303" y="406400"/>
                </a:cubicBezTo>
                <a:cubicBezTo>
                  <a:pt x="346006" y="404641"/>
                  <a:pt x="327179" y="411243"/>
                  <a:pt x="288003" y="400050"/>
                </a:cubicBezTo>
                <a:cubicBezTo>
                  <a:pt x="284785" y="399131"/>
                  <a:pt x="281696" y="397794"/>
                  <a:pt x="278478" y="396875"/>
                </a:cubicBezTo>
                <a:cubicBezTo>
                  <a:pt x="244889" y="387278"/>
                  <a:pt x="291999" y="402440"/>
                  <a:pt x="246728" y="387350"/>
                </a:cubicBezTo>
                <a:cubicBezTo>
                  <a:pt x="243553" y="386292"/>
                  <a:pt x="239988" y="386031"/>
                  <a:pt x="237203" y="384175"/>
                </a:cubicBezTo>
                <a:cubicBezTo>
                  <a:pt x="223942" y="375334"/>
                  <a:pt x="230376" y="380523"/>
                  <a:pt x="218153" y="368300"/>
                </a:cubicBezTo>
                <a:cubicBezTo>
                  <a:pt x="210596" y="345630"/>
                  <a:pt x="217372" y="352963"/>
                  <a:pt x="202278" y="342900"/>
                </a:cubicBezTo>
                <a:cubicBezTo>
                  <a:pt x="200161" y="339725"/>
                  <a:pt x="198800" y="335888"/>
                  <a:pt x="195928" y="333375"/>
                </a:cubicBezTo>
                <a:lnTo>
                  <a:pt x="167353" y="314325"/>
                </a:lnTo>
                <a:cubicBezTo>
                  <a:pt x="144905" y="299360"/>
                  <a:pt x="172695" y="318141"/>
                  <a:pt x="145128" y="298450"/>
                </a:cubicBezTo>
                <a:cubicBezTo>
                  <a:pt x="142023" y="296232"/>
                  <a:pt x="138708" y="294318"/>
                  <a:pt x="135603" y="292100"/>
                </a:cubicBezTo>
                <a:cubicBezTo>
                  <a:pt x="132247" y="289703"/>
                  <a:pt x="118366" y="278719"/>
                  <a:pt x="113378" y="276225"/>
                </a:cubicBezTo>
                <a:cubicBezTo>
                  <a:pt x="87088" y="263080"/>
                  <a:pt x="121625" y="284898"/>
                  <a:pt x="94328" y="266700"/>
                </a:cubicBezTo>
                <a:cubicBezTo>
                  <a:pt x="92211" y="263525"/>
                  <a:pt x="90676" y="259873"/>
                  <a:pt x="87978" y="257175"/>
                </a:cubicBezTo>
                <a:cubicBezTo>
                  <a:pt x="85280" y="254477"/>
                  <a:pt x="80837" y="253805"/>
                  <a:pt x="78453" y="250825"/>
                </a:cubicBezTo>
                <a:cubicBezTo>
                  <a:pt x="76797" y="248755"/>
                  <a:pt x="72310" y="229430"/>
                  <a:pt x="72103" y="228600"/>
                </a:cubicBezTo>
                <a:cubicBezTo>
                  <a:pt x="71489" y="219385"/>
                  <a:pt x="72695" y="177100"/>
                  <a:pt x="62578" y="161925"/>
                </a:cubicBezTo>
                <a:cubicBezTo>
                  <a:pt x="58345" y="155575"/>
                  <a:pt x="56228" y="147108"/>
                  <a:pt x="49878" y="142875"/>
                </a:cubicBezTo>
                <a:lnTo>
                  <a:pt x="40353" y="136525"/>
                </a:lnTo>
                <a:cubicBezTo>
                  <a:pt x="38236" y="133350"/>
                  <a:pt x="35553" y="130487"/>
                  <a:pt x="34003" y="127000"/>
                </a:cubicBezTo>
                <a:cubicBezTo>
                  <a:pt x="31285" y="120883"/>
                  <a:pt x="31366" y="113519"/>
                  <a:pt x="27653" y="107950"/>
                </a:cubicBezTo>
                <a:lnTo>
                  <a:pt x="21303" y="98425"/>
                </a:lnTo>
                <a:cubicBezTo>
                  <a:pt x="19121" y="87513"/>
                  <a:pt x="17942" y="80312"/>
                  <a:pt x="14953" y="69850"/>
                </a:cubicBezTo>
                <a:cubicBezTo>
                  <a:pt x="14034" y="66632"/>
                  <a:pt x="-6743" y="59796"/>
                  <a:pt x="2253" y="57150"/>
                </a:cubicBezTo>
                <a:close/>
              </a:path>
            </a:pathLst>
          </a:custGeom>
          <a:solidFill>
            <a:srgbClr val="6076b4"/>
          </a:solidFill>
          <a:ln w="28440">
            <a:solidFill>
              <a:srgbClr val="4455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任意多边形 5"/>
          <p:cNvSpPr/>
          <p:nvPr/>
        </p:nvSpPr>
        <p:spPr>
          <a:xfrm>
            <a:off x="5499000" y="1541520"/>
            <a:ext cx="1971720" cy="142920"/>
          </a:xfrm>
          <a:custGeom>
            <a:avLst/>
            <a:gdLst/>
            <a:ahLst/>
            <a:rect l="l" t="t" r="r" b="b"/>
            <a:pathLst>
              <a:path w="1895475" h="285800">
                <a:moveTo>
                  <a:pt x="0" y="285800"/>
                </a:moveTo>
                <a:cubicBezTo>
                  <a:pt x="101516" y="245194"/>
                  <a:pt x="-5936" y="284821"/>
                  <a:pt x="95250" y="257225"/>
                </a:cubicBezTo>
                <a:cubicBezTo>
                  <a:pt x="114623" y="251941"/>
                  <a:pt x="132919" y="243045"/>
                  <a:pt x="152400" y="238175"/>
                </a:cubicBezTo>
                <a:cubicBezTo>
                  <a:pt x="165100" y="235000"/>
                  <a:pt x="177961" y="232412"/>
                  <a:pt x="190500" y="228650"/>
                </a:cubicBezTo>
                <a:cubicBezTo>
                  <a:pt x="209734" y="222880"/>
                  <a:pt x="228600" y="215950"/>
                  <a:pt x="247650" y="209600"/>
                </a:cubicBezTo>
                <a:cubicBezTo>
                  <a:pt x="257175" y="206425"/>
                  <a:pt x="267871" y="205644"/>
                  <a:pt x="276225" y="200075"/>
                </a:cubicBezTo>
                <a:cubicBezTo>
                  <a:pt x="298166" y="185447"/>
                  <a:pt x="307085" y="175882"/>
                  <a:pt x="333375" y="171500"/>
                </a:cubicBezTo>
                <a:cubicBezTo>
                  <a:pt x="361735" y="166773"/>
                  <a:pt x="390525" y="165150"/>
                  <a:pt x="419100" y="161975"/>
                </a:cubicBezTo>
                <a:cubicBezTo>
                  <a:pt x="428625" y="158800"/>
                  <a:pt x="437830" y="154419"/>
                  <a:pt x="447675" y="152450"/>
                </a:cubicBezTo>
                <a:cubicBezTo>
                  <a:pt x="528320" y="136321"/>
                  <a:pt x="493818" y="150439"/>
                  <a:pt x="561975" y="133400"/>
                </a:cubicBezTo>
                <a:cubicBezTo>
                  <a:pt x="607271" y="122076"/>
                  <a:pt x="575200" y="123258"/>
                  <a:pt x="628650" y="114350"/>
                </a:cubicBezTo>
                <a:cubicBezTo>
                  <a:pt x="653899" y="110142"/>
                  <a:pt x="679510" y="108445"/>
                  <a:pt x="704850" y="104825"/>
                </a:cubicBezTo>
                <a:cubicBezTo>
                  <a:pt x="771837" y="95255"/>
                  <a:pt x="770380" y="90463"/>
                  <a:pt x="847725" y="85775"/>
                </a:cubicBezTo>
                <a:cubicBezTo>
                  <a:pt x="923851" y="81161"/>
                  <a:pt x="1000125" y="79425"/>
                  <a:pt x="1076325" y="76250"/>
                </a:cubicBezTo>
                <a:cubicBezTo>
                  <a:pt x="1191805" y="37757"/>
                  <a:pt x="1075189" y="73327"/>
                  <a:pt x="1190625" y="47675"/>
                </a:cubicBezTo>
                <a:cubicBezTo>
                  <a:pt x="1257274" y="32864"/>
                  <a:pt x="1172728" y="40387"/>
                  <a:pt x="1266825" y="28625"/>
                </a:cubicBezTo>
                <a:cubicBezTo>
                  <a:pt x="1414079" y="10218"/>
                  <a:pt x="1604011" y="12984"/>
                  <a:pt x="1733550" y="9575"/>
                </a:cubicBezTo>
                <a:cubicBezTo>
                  <a:pt x="1863670" y="-1268"/>
                  <a:pt x="1809618" y="50"/>
                  <a:pt x="1895475" y="50"/>
                </a:cubicBezTo>
              </a:path>
            </a:pathLst>
          </a:custGeom>
          <a:noFill/>
          <a:ln w="88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任意多边形 6"/>
          <p:cNvSpPr/>
          <p:nvPr/>
        </p:nvSpPr>
        <p:spPr>
          <a:xfrm>
            <a:off x="5025960" y="2716200"/>
            <a:ext cx="2916360" cy="457200"/>
          </a:xfrm>
          <a:custGeom>
            <a:avLst/>
            <a:gdLst/>
            <a:ahLst/>
            <a:rect l="l" t="t" r="r" b="b"/>
            <a:pathLst>
              <a:path w="2916483" h="457200">
                <a:moveTo>
                  <a:pt x="0" y="76200"/>
                </a:moveTo>
                <a:cubicBezTo>
                  <a:pt x="15875" y="82550"/>
                  <a:pt x="33126" y="86188"/>
                  <a:pt x="47625" y="95250"/>
                </a:cubicBezTo>
                <a:cubicBezTo>
                  <a:pt x="129167" y="146214"/>
                  <a:pt x="29233" y="108169"/>
                  <a:pt x="104775" y="133350"/>
                </a:cubicBezTo>
                <a:cubicBezTo>
                  <a:pt x="114300" y="139700"/>
                  <a:pt x="122889" y="147751"/>
                  <a:pt x="133350" y="152400"/>
                </a:cubicBezTo>
                <a:cubicBezTo>
                  <a:pt x="151700" y="160555"/>
                  <a:pt x="190500" y="171450"/>
                  <a:pt x="190500" y="171450"/>
                </a:cubicBezTo>
                <a:cubicBezTo>
                  <a:pt x="272392" y="226045"/>
                  <a:pt x="168780" y="160590"/>
                  <a:pt x="247650" y="200025"/>
                </a:cubicBezTo>
                <a:cubicBezTo>
                  <a:pt x="257889" y="205145"/>
                  <a:pt x="265986" y="213955"/>
                  <a:pt x="276225" y="219075"/>
                </a:cubicBezTo>
                <a:cubicBezTo>
                  <a:pt x="285205" y="223565"/>
                  <a:pt x="295114" y="225958"/>
                  <a:pt x="304800" y="228600"/>
                </a:cubicBezTo>
                <a:cubicBezTo>
                  <a:pt x="330059" y="235489"/>
                  <a:pt x="355600" y="241300"/>
                  <a:pt x="381000" y="247650"/>
                </a:cubicBezTo>
                <a:cubicBezTo>
                  <a:pt x="400481" y="252520"/>
                  <a:pt x="419100" y="260350"/>
                  <a:pt x="438150" y="266700"/>
                </a:cubicBezTo>
                <a:lnTo>
                  <a:pt x="523875" y="295275"/>
                </a:lnTo>
                <a:cubicBezTo>
                  <a:pt x="539234" y="300395"/>
                  <a:pt x="555696" y="301288"/>
                  <a:pt x="571500" y="304800"/>
                </a:cubicBezTo>
                <a:cubicBezTo>
                  <a:pt x="584279" y="307640"/>
                  <a:pt x="596821" y="311485"/>
                  <a:pt x="609600" y="314325"/>
                </a:cubicBezTo>
                <a:cubicBezTo>
                  <a:pt x="625404" y="317837"/>
                  <a:pt x="641519" y="319923"/>
                  <a:pt x="657225" y="323850"/>
                </a:cubicBezTo>
                <a:cubicBezTo>
                  <a:pt x="666965" y="326285"/>
                  <a:pt x="676060" y="330940"/>
                  <a:pt x="685800" y="333375"/>
                </a:cubicBezTo>
                <a:cubicBezTo>
                  <a:pt x="701506" y="337302"/>
                  <a:pt x="717806" y="338640"/>
                  <a:pt x="733425" y="342900"/>
                </a:cubicBezTo>
                <a:cubicBezTo>
                  <a:pt x="752798" y="348184"/>
                  <a:pt x="770884" y="358012"/>
                  <a:pt x="790575" y="361950"/>
                </a:cubicBezTo>
                <a:cubicBezTo>
                  <a:pt x="806450" y="365125"/>
                  <a:pt x="822581" y="367215"/>
                  <a:pt x="838200" y="371475"/>
                </a:cubicBezTo>
                <a:cubicBezTo>
                  <a:pt x="857573" y="376759"/>
                  <a:pt x="876300" y="384175"/>
                  <a:pt x="895350" y="390525"/>
                </a:cubicBezTo>
                <a:cubicBezTo>
                  <a:pt x="907769" y="394665"/>
                  <a:pt x="920911" y="396288"/>
                  <a:pt x="933450" y="400050"/>
                </a:cubicBezTo>
                <a:cubicBezTo>
                  <a:pt x="1070097" y="441044"/>
                  <a:pt x="899853" y="396413"/>
                  <a:pt x="1066800" y="438150"/>
                </a:cubicBezTo>
                <a:lnTo>
                  <a:pt x="1104900" y="447675"/>
                </a:lnTo>
                <a:lnTo>
                  <a:pt x="1143000" y="457200"/>
                </a:lnTo>
                <a:cubicBezTo>
                  <a:pt x="1214610" y="450690"/>
                  <a:pt x="1231000" y="454613"/>
                  <a:pt x="1285875" y="438150"/>
                </a:cubicBezTo>
                <a:cubicBezTo>
                  <a:pt x="1305109" y="432380"/>
                  <a:pt x="1343025" y="419100"/>
                  <a:pt x="1343025" y="419100"/>
                </a:cubicBezTo>
                <a:cubicBezTo>
                  <a:pt x="1352550" y="412750"/>
                  <a:pt x="1361139" y="404699"/>
                  <a:pt x="1371600" y="400050"/>
                </a:cubicBezTo>
                <a:cubicBezTo>
                  <a:pt x="1424709" y="376446"/>
                  <a:pt x="1444932" y="378977"/>
                  <a:pt x="1504950" y="371475"/>
                </a:cubicBezTo>
                <a:cubicBezTo>
                  <a:pt x="1514475" y="368300"/>
                  <a:pt x="1523647" y="363746"/>
                  <a:pt x="1533525" y="361950"/>
                </a:cubicBezTo>
                <a:cubicBezTo>
                  <a:pt x="1566483" y="355958"/>
                  <a:pt x="1677625" y="345635"/>
                  <a:pt x="1704975" y="342900"/>
                </a:cubicBezTo>
                <a:lnTo>
                  <a:pt x="1762125" y="323850"/>
                </a:lnTo>
                <a:lnTo>
                  <a:pt x="1790700" y="314325"/>
                </a:lnTo>
                <a:cubicBezTo>
                  <a:pt x="1800225" y="307975"/>
                  <a:pt x="1809036" y="300395"/>
                  <a:pt x="1819275" y="295275"/>
                </a:cubicBezTo>
                <a:cubicBezTo>
                  <a:pt x="1842723" y="283551"/>
                  <a:pt x="1883050" y="279883"/>
                  <a:pt x="1905000" y="276225"/>
                </a:cubicBezTo>
                <a:lnTo>
                  <a:pt x="1990725" y="247650"/>
                </a:lnTo>
                <a:lnTo>
                  <a:pt x="2019300" y="238125"/>
                </a:lnTo>
                <a:cubicBezTo>
                  <a:pt x="2028825" y="234950"/>
                  <a:pt x="2038030" y="230569"/>
                  <a:pt x="2047875" y="228600"/>
                </a:cubicBezTo>
                <a:cubicBezTo>
                  <a:pt x="2063750" y="225425"/>
                  <a:pt x="2079794" y="223002"/>
                  <a:pt x="2095500" y="219075"/>
                </a:cubicBezTo>
                <a:cubicBezTo>
                  <a:pt x="2105240" y="216640"/>
                  <a:pt x="2114051" y="210123"/>
                  <a:pt x="2124075" y="209550"/>
                </a:cubicBezTo>
                <a:cubicBezTo>
                  <a:pt x="2225559" y="203751"/>
                  <a:pt x="2327275" y="203200"/>
                  <a:pt x="2428875" y="200025"/>
                </a:cubicBezTo>
                <a:lnTo>
                  <a:pt x="2486025" y="180975"/>
                </a:lnTo>
                <a:lnTo>
                  <a:pt x="2514600" y="171450"/>
                </a:lnTo>
                <a:cubicBezTo>
                  <a:pt x="2524125" y="165100"/>
                  <a:pt x="2532714" y="157049"/>
                  <a:pt x="2543175" y="152400"/>
                </a:cubicBezTo>
                <a:cubicBezTo>
                  <a:pt x="2561525" y="144245"/>
                  <a:pt x="2581275" y="139700"/>
                  <a:pt x="2600325" y="133350"/>
                </a:cubicBezTo>
                <a:lnTo>
                  <a:pt x="2657475" y="114300"/>
                </a:lnTo>
                <a:lnTo>
                  <a:pt x="2714625" y="95250"/>
                </a:lnTo>
                <a:lnTo>
                  <a:pt x="2743200" y="85725"/>
                </a:lnTo>
                <a:cubicBezTo>
                  <a:pt x="2752725" y="79375"/>
                  <a:pt x="2761314" y="71324"/>
                  <a:pt x="2771775" y="66675"/>
                </a:cubicBezTo>
                <a:cubicBezTo>
                  <a:pt x="2790125" y="58520"/>
                  <a:pt x="2828925" y="47625"/>
                  <a:pt x="2828925" y="47625"/>
                </a:cubicBezTo>
                <a:cubicBezTo>
                  <a:pt x="2838450" y="41275"/>
                  <a:pt x="2847039" y="33224"/>
                  <a:pt x="2857500" y="28575"/>
                </a:cubicBezTo>
                <a:cubicBezTo>
                  <a:pt x="2914186" y="3381"/>
                  <a:pt x="2929905" y="24780"/>
                  <a:pt x="2905125" y="0"/>
                </a:cubicBezTo>
              </a:path>
            </a:pathLst>
          </a:custGeom>
          <a:noFill/>
          <a:ln w="88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矩形 11"/>
          <p:cNvSpPr/>
          <p:nvPr/>
        </p:nvSpPr>
        <p:spPr>
          <a:xfrm>
            <a:off x="527040" y="-15840"/>
            <a:ext cx="1152360" cy="811080"/>
          </a:xfrm>
          <a:prstGeom prst="rect">
            <a:avLst/>
          </a:prstGeom>
          <a:solidFill>
            <a:srgbClr val="dfe4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矩形 12"/>
          <p:cNvSpPr/>
          <p:nvPr/>
        </p:nvSpPr>
        <p:spPr>
          <a:xfrm>
            <a:off x="436680" y="34920"/>
            <a:ext cx="147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030a0"/>
                </a:solidFill>
                <a:latin typeface="黑体"/>
                <a:ea typeface="黑体"/>
              </a:rPr>
              <a:t>位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3"/>
          <p:cNvSpPr/>
          <p:nvPr/>
        </p:nvSpPr>
        <p:spPr>
          <a:xfrm>
            <a:off x="3497400" y="3811680"/>
            <a:ext cx="12189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南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3"/>
          <p:cNvSpPr/>
          <p:nvPr/>
        </p:nvSpPr>
        <p:spPr>
          <a:xfrm>
            <a:off x="5025960" y="3821040"/>
            <a:ext cx="1633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天山山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3"/>
          <p:cNvSpPr/>
          <p:nvPr/>
        </p:nvSpPr>
        <p:spPr>
          <a:xfrm>
            <a:off x="7236000" y="3795840"/>
            <a:ext cx="16351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昆仑山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3"/>
          <p:cNvSpPr/>
          <p:nvPr/>
        </p:nvSpPr>
        <p:spPr>
          <a:xfrm>
            <a:off x="2712960" y="4208400"/>
            <a:ext cx="1633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面积最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图片 1" descr=""/>
          <p:cNvPicPr/>
          <p:nvPr/>
        </p:nvPicPr>
        <p:blipFill>
          <a:blip r:embed="rId1"/>
          <a:srcRect l="0" t="6998" r="0" b="0"/>
          <a:stretch/>
        </p:blipFill>
        <p:spPr>
          <a:xfrm>
            <a:off x="166680" y="1139760"/>
            <a:ext cx="5197320" cy="3664080"/>
          </a:xfrm>
          <a:prstGeom prst="rect">
            <a:avLst/>
          </a:prstGeom>
          <a:ln w="0">
            <a:noFill/>
          </a:ln>
        </p:spPr>
      </p:pic>
      <p:pic>
        <p:nvPicPr>
          <p:cNvPr id="481" name="内容占位符 3" descr=""/>
          <p:cNvPicPr/>
          <p:nvPr/>
        </p:nvPicPr>
        <p:blipFill>
          <a:blip r:embed="rId2"/>
          <a:srcRect l="0" t="46810" r="0" b="30698"/>
          <a:stretch/>
        </p:blipFill>
        <p:spPr>
          <a:xfrm>
            <a:off x="-15840" y="-15840"/>
            <a:ext cx="9177480" cy="915840"/>
          </a:xfrm>
          <a:prstGeom prst="rect">
            <a:avLst/>
          </a:prstGeom>
          <a:ln w="0">
            <a:noFill/>
          </a:ln>
        </p:spPr>
      </p:pic>
      <p:pic>
        <p:nvPicPr>
          <p:cNvPr id="482" name="图片 9" descr=""/>
          <p:cNvPicPr/>
          <p:nvPr/>
        </p:nvPicPr>
        <p:blipFill>
          <a:blip r:embed="rId3"/>
          <a:stretch/>
        </p:blipFill>
        <p:spPr>
          <a:xfrm>
            <a:off x="5543640" y="1058760"/>
            <a:ext cx="2916000" cy="2001960"/>
          </a:xfrm>
          <a:prstGeom prst="rect">
            <a:avLst/>
          </a:prstGeom>
          <a:ln w="0">
            <a:noFill/>
          </a:ln>
        </p:spPr>
      </p:pic>
      <p:pic>
        <p:nvPicPr>
          <p:cNvPr id="483" name="图片 7" descr=""/>
          <p:cNvPicPr/>
          <p:nvPr/>
        </p:nvPicPr>
        <p:blipFill>
          <a:blip r:embed="rId4"/>
          <a:stretch/>
        </p:blipFill>
        <p:spPr>
          <a:xfrm>
            <a:off x="5553000" y="3181320"/>
            <a:ext cx="2906640" cy="1871640"/>
          </a:xfrm>
          <a:prstGeom prst="rect">
            <a:avLst/>
          </a:prstGeom>
          <a:ln w="0">
            <a:noFill/>
          </a:ln>
        </p:spPr>
      </p:pic>
      <p:sp>
        <p:nvSpPr>
          <p:cNvPr id="484" name="任意多边形 9"/>
          <p:cNvSpPr/>
          <p:nvPr/>
        </p:nvSpPr>
        <p:spPr>
          <a:xfrm rot="20338200">
            <a:off x="684000" y="2630520"/>
            <a:ext cx="863280" cy="406440"/>
          </a:xfrm>
          <a:custGeom>
            <a:avLst/>
            <a:gdLst/>
            <a:ahLst/>
            <a:rect l="l" t="t" r="r" b="b"/>
            <a:pathLst>
              <a:path w="856341" h="406763">
                <a:moveTo>
                  <a:pt x="2253" y="57150"/>
                </a:moveTo>
                <a:cubicBezTo>
                  <a:pt x="11249" y="54504"/>
                  <a:pt x="46755" y="55823"/>
                  <a:pt x="68928" y="53975"/>
                </a:cubicBezTo>
                <a:cubicBezTo>
                  <a:pt x="72263" y="53697"/>
                  <a:pt x="75106" y="50800"/>
                  <a:pt x="78453" y="50800"/>
                </a:cubicBezTo>
                <a:cubicBezTo>
                  <a:pt x="88037" y="50800"/>
                  <a:pt x="97503" y="52917"/>
                  <a:pt x="107028" y="53975"/>
                </a:cubicBezTo>
                <a:cubicBezTo>
                  <a:pt x="110203" y="55033"/>
                  <a:pt x="113206" y="57150"/>
                  <a:pt x="116553" y="57150"/>
                </a:cubicBezTo>
                <a:cubicBezTo>
                  <a:pt x="164190" y="57150"/>
                  <a:pt x="211873" y="56772"/>
                  <a:pt x="259428" y="53975"/>
                </a:cubicBezTo>
                <a:cubicBezTo>
                  <a:pt x="266110" y="53582"/>
                  <a:pt x="271914" y="48938"/>
                  <a:pt x="278478" y="47625"/>
                </a:cubicBezTo>
                <a:cubicBezTo>
                  <a:pt x="283770" y="46567"/>
                  <a:pt x="289147" y="45870"/>
                  <a:pt x="294353" y="44450"/>
                </a:cubicBezTo>
                <a:cubicBezTo>
                  <a:pt x="300811" y="42689"/>
                  <a:pt x="307053" y="40217"/>
                  <a:pt x="313403" y="38100"/>
                </a:cubicBezTo>
                <a:cubicBezTo>
                  <a:pt x="316578" y="37042"/>
                  <a:pt x="320143" y="36781"/>
                  <a:pt x="322928" y="34925"/>
                </a:cubicBezTo>
                <a:cubicBezTo>
                  <a:pt x="329278" y="30692"/>
                  <a:pt x="334738" y="24638"/>
                  <a:pt x="341978" y="22225"/>
                </a:cubicBezTo>
                <a:cubicBezTo>
                  <a:pt x="348328" y="20108"/>
                  <a:pt x="354362" y="16481"/>
                  <a:pt x="361028" y="15875"/>
                </a:cubicBezTo>
                <a:cubicBezTo>
                  <a:pt x="373277" y="14761"/>
                  <a:pt x="400441" y="13166"/>
                  <a:pt x="415003" y="9525"/>
                </a:cubicBezTo>
                <a:cubicBezTo>
                  <a:pt x="421497" y="7902"/>
                  <a:pt x="427703" y="5292"/>
                  <a:pt x="434053" y="3175"/>
                </a:cubicBezTo>
                <a:lnTo>
                  <a:pt x="443578" y="0"/>
                </a:lnTo>
                <a:cubicBezTo>
                  <a:pt x="453103" y="1058"/>
                  <a:pt x="462681" y="1718"/>
                  <a:pt x="472153" y="3175"/>
                </a:cubicBezTo>
                <a:cubicBezTo>
                  <a:pt x="481064" y="4546"/>
                  <a:pt x="496486" y="10228"/>
                  <a:pt x="503903" y="12700"/>
                </a:cubicBezTo>
                <a:lnTo>
                  <a:pt x="570578" y="34925"/>
                </a:lnTo>
                <a:lnTo>
                  <a:pt x="599153" y="44450"/>
                </a:lnTo>
                <a:cubicBezTo>
                  <a:pt x="602328" y="45508"/>
                  <a:pt x="605431" y="46813"/>
                  <a:pt x="608678" y="47625"/>
                </a:cubicBezTo>
                <a:cubicBezTo>
                  <a:pt x="611667" y="48372"/>
                  <a:pt x="627176" y="51905"/>
                  <a:pt x="630903" y="53975"/>
                </a:cubicBezTo>
                <a:cubicBezTo>
                  <a:pt x="637574" y="57681"/>
                  <a:pt x="643603" y="62442"/>
                  <a:pt x="649953" y="66675"/>
                </a:cubicBezTo>
                <a:cubicBezTo>
                  <a:pt x="653128" y="68792"/>
                  <a:pt x="656780" y="70327"/>
                  <a:pt x="659478" y="73025"/>
                </a:cubicBezTo>
                <a:cubicBezTo>
                  <a:pt x="665828" y="79375"/>
                  <a:pt x="671056" y="87094"/>
                  <a:pt x="678528" y="92075"/>
                </a:cubicBezTo>
                <a:lnTo>
                  <a:pt x="697578" y="104775"/>
                </a:lnTo>
                <a:cubicBezTo>
                  <a:pt x="709311" y="122374"/>
                  <a:pt x="697215" y="108454"/>
                  <a:pt x="713453" y="117475"/>
                </a:cubicBezTo>
                <a:cubicBezTo>
                  <a:pt x="720124" y="121181"/>
                  <a:pt x="726153" y="125942"/>
                  <a:pt x="732503" y="130175"/>
                </a:cubicBezTo>
                <a:cubicBezTo>
                  <a:pt x="735678" y="132292"/>
                  <a:pt x="738326" y="135600"/>
                  <a:pt x="742028" y="136525"/>
                </a:cubicBezTo>
                <a:cubicBezTo>
                  <a:pt x="746261" y="137583"/>
                  <a:pt x="750548" y="138446"/>
                  <a:pt x="754728" y="139700"/>
                </a:cubicBezTo>
                <a:cubicBezTo>
                  <a:pt x="777341" y="146484"/>
                  <a:pt x="767660" y="145043"/>
                  <a:pt x="786478" y="149225"/>
                </a:cubicBezTo>
                <a:cubicBezTo>
                  <a:pt x="813404" y="155209"/>
                  <a:pt x="791667" y="148838"/>
                  <a:pt x="821403" y="158750"/>
                </a:cubicBezTo>
                <a:lnTo>
                  <a:pt x="830928" y="161925"/>
                </a:lnTo>
                <a:cubicBezTo>
                  <a:pt x="834103" y="162983"/>
                  <a:pt x="837668" y="163244"/>
                  <a:pt x="840453" y="165100"/>
                </a:cubicBezTo>
                <a:lnTo>
                  <a:pt x="849978" y="171450"/>
                </a:lnTo>
                <a:cubicBezTo>
                  <a:pt x="852095" y="174625"/>
                  <a:pt x="855855" y="177189"/>
                  <a:pt x="856328" y="180975"/>
                </a:cubicBezTo>
                <a:cubicBezTo>
                  <a:pt x="856615" y="183273"/>
                  <a:pt x="852305" y="202186"/>
                  <a:pt x="849978" y="206375"/>
                </a:cubicBezTo>
                <a:cubicBezTo>
                  <a:pt x="846272" y="213046"/>
                  <a:pt x="839691" y="218185"/>
                  <a:pt x="837278" y="225425"/>
                </a:cubicBezTo>
                <a:cubicBezTo>
                  <a:pt x="834696" y="233172"/>
                  <a:pt x="833908" y="238320"/>
                  <a:pt x="827753" y="244475"/>
                </a:cubicBezTo>
                <a:cubicBezTo>
                  <a:pt x="825055" y="247173"/>
                  <a:pt x="821403" y="248708"/>
                  <a:pt x="818228" y="250825"/>
                </a:cubicBezTo>
                <a:cubicBezTo>
                  <a:pt x="814919" y="260751"/>
                  <a:pt x="811711" y="273162"/>
                  <a:pt x="802353" y="279400"/>
                </a:cubicBezTo>
                <a:lnTo>
                  <a:pt x="792828" y="285750"/>
                </a:lnTo>
                <a:cubicBezTo>
                  <a:pt x="788595" y="292100"/>
                  <a:pt x="787368" y="302387"/>
                  <a:pt x="780128" y="304800"/>
                </a:cubicBezTo>
                <a:lnTo>
                  <a:pt x="761078" y="311150"/>
                </a:lnTo>
                <a:cubicBezTo>
                  <a:pt x="757903" y="312208"/>
                  <a:pt x="754883" y="313992"/>
                  <a:pt x="751553" y="314325"/>
                </a:cubicBezTo>
                <a:lnTo>
                  <a:pt x="719803" y="317500"/>
                </a:lnTo>
                <a:lnTo>
                  <a:pt x="672178" y="333375"/>
                </a:lnTo>
                <a:lnTo>
                  <a:pt x="662653" y="336550"/>
                </a:lnTo>
                <a:cubicBezTo>
                  <a:pt x="659478" y="337608"/>
                  <a:pt x="655913" y="337869"/>
                  <a:pt x="653128" y="339725"/>
                </a:cubicBezTo>
                <a:cubicBezTo>
                  <a:pt x="649953" y="341842"/>
                  <a:pt x="647016" y="344368"/>
                  <a:pt x="643603" y="346075"/>
                </a:cubicBezTo>
                <a:cubicBezTo>
                  <a:pt x="640610" y="347572"/>
                  <a:pt x="637004" y="347625"/>
                  <a:pt x="634078" y="349250"/>
                </a:cubicBezTo>
                <a:lnTo>
                  <a:pt x="605503" y="368300"/>
                </a:lnTo>
                <a:cubicBezTo>
                  <a:pt x="602328" y="370417"/>
                  <a:pt x="599598" y="373443"/>
                  <a:pt x="595978" y="374650"/>
                </a:cubicBezTo>
                <a:lnTo>
                  <a:pt x="557878" y="387350"/>
                </a:lnTo>
                <a:lnTo>
                  <a:pt x="548353" y="390525"/>
                </a:lnTo>
                <a:cubicBezTo>
                  <a:pt x="545178" y="391583"/>
                  <a:pt x="542171" y="393548"/>
                  <a:pt x="538828" y="393700"/>
                </a:cubicBezTo>
                <a:lnTo>
                  <a:pt x="468978" y="396875"/>
                </a:lnTo>
                <a:cubicBezTo>
                  <a:pt x="465803" y="397933"/>
                  <a:pt x="462700" y="399238"/>
                  <a:pt x="459453" y="400050"/>
                </a:cubicBezTo>
                <a:cubicBezTo>
                  <a:pt x="438542" y="405278"/>
                  <a:pt x="427236" y="404482"/>
                  <a:pt x="402303" y="406400"/>
                </a:cubicBezTo>
                <a:cubicBezTo>
                  <a:pt x="346006" y="404641"/>
                  <a:pt x="327179" y="411243"/>
                  <a:pt x="288003" y="400050"/>
                </a:cubicBezTo>
                <a:cubicBezTo>
                  <a:pt x="284785" y="399131"/>
                  <a:pt x="281696" y="397794"/>
                  <a:pt x="278478" y="396875"/>
                </a:cubicBezTo>
                <a:cubicBezTo>
                  <a:pt x="244889" y="387278"/>
                  <a:pt x="291999" y="402440"/>
                  <a:pt x="246728" y="387350"/>
                </a:cubicBezTo>
                <a:cubicBezTo>
                  <a:pt x="243553" y="386292"/>
                  <a:pt x="239988" y="386031"/>
                  <a:pt x="237203" y="384175"/>
                </a:cubicBezTo>
                <a:cubicBezTo>
                  <a:pt x="223942" y="375334"/>
                  <a:pt x="230376" y="380523"/>
                  <a:pt x="218153" y="368300"/>
                </a:cubicBezTo>
                <a:cubicBezTo>
                  <a:pt x="210596" y="345630"/>
                  <a:pt x="217372" y="352963"/>
                  <a:pt x="202278" y="342900"/>
                </a:cubicBezTo>
                <a:cubicBezTo>
                  <a:pt x="200161" y="339725"/>
                  <a:pt x="198800" y="335888"/>
                  <a:pt x="195928" y="333375"/>
                </a:cubicBezTo>
                <a:lnTo>
                  <a:pt x="167353" y="314325"/>
                </a:lnTo>
                <a:cubicBezTo>
                  <a:pt x="144905" y="299360"/>
                  <a:pt x="172695" y="318141"/>
                  <a:pt x="145128" y="298450"/>
                </a:cubicBezTo>
                <a:cubicBezTo>
                  <a:pt x="142023" y="296232"/>
                  <a:pt x="138708" y="294318"/>
                  <a:pt x="135603" y="292100"/>
                </a:cubicBezTo>
                <a:cubicBezTo>
                  <a:pt x="132247" y="289703"/>
                  <a:pt x="118366" y="278719"/>
                  <a:pt x="113378" y="276225"/>
                </a:cubicBezTo>
                <a:cubicBezTo>
                  <a:pt x="87088" y="263080"/>
                  <a:pt x="121625" y="284898"/>
                  <a:pt x="94328" y="266700"/>
                </a:cubicBezTo>
                <a:cubicBezTo>
                  <a:pt x="92211" y="263525"/>
                  <a:pt x="90676" y="259873"/>
                  <a:pt x="87978" y="257175"/>
                </a:cubicBezTo>
                <a:cubicBezTo>
                  <a:pt x="85280" y="254477"/>
                  <a:pt x="80837" y="253805"/>
                  <a:pt x="78453" y="250825"/>
                </a:cubicBezTo>
                <a:cubicBezTo>
                  <a:pt x="76797" y="248755"/>
                  <a:pt x="72310" y="229430"/>
                  <a:pt x="72103" y="228600"/>
                </a:cubicBezTo>
                <a:cubicBezTo>
                  <a:pt x="71489" y="219385"/>
                  <a:pt x="72695" y="177100"/>
                  <a:pt x="62578" y="161925"/>
                </a:cubicBezTo>
                <a:cubicBezTo>
                  <a:pt x="58345" y="155575"/>
                  <a:pt x="56228" y="147108"/>
                  <a:pt x="49878" y="142875"/>
                </a:cubicBezTo>
                <a:lnTo>
                  <a:pt x="40353" y="136525"/>
                </a:lnTo>
                <a:cubicBezTo>
                  <a:pt x="38236" y="133350"/>
                  <a:pt x="35553" y="130487"/>
                  <a:pt x="34003" y="127000"/>
                </a:cubicBezTo>
                <a:cubicBezTo>
                  <a:pt x="31285" y="120883"/>
                  <a:pt x="31366" y="113519"/>
                  <a:pt x="27653" y="107950"/>
                </a:cubicBezTo>
                <a:lnTo>
                  <a:pt x="21303" y="98425"/>
                </a:lnTo>
                <a:cubicBezTo>
                  <a:pt x="19121" y="87513"/>
                  <a:pt x="17942" y="80312"/>
                  <a:pt x="14953" y="69850"/>
                </a:cubicBezTo>
                <a:cubicBezTo>
                  <a:pt x="14034" y="66632"/>
                  <a:pt x="-6743" y="59796"/>
                  <a:pt x="2253" y="57150"/>
                </a:cubicBez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07640" y="2571480"/>
            <a:ext cx="8351640" cy="718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f5897"/>
                </a:solidFill>
                <a:latin typeface="幼圆"/>
              </a:rPr>
              <a:t>塔克拉玛干沙漠是我国</a:t>
            </a:r>
            <a:r>
              <a:rPr b="1" lang="zh-CN" sz="3600" spc="-1" strike="noStrike">
                <a:solidFill>
                  <a:srgbClr val="ff0000"/>
                </a:solidFill>
                <a:latin typeface="幼圆"/>
              </a:rPr>
              <a:t>面积最大</a:t>
            </a:r>
            <a:r>
              <a:rPr b="1" lang="zh-CN" sz="3600" spc="-1" strike="noStrike">
                <a:solidFill>
                  <a:srgbClr val="2f5897"/>
                </a:solidFill>
                <a:latin typeface="幼圆"/>
              </a:rPr>
              <a:t>的沙漠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86" name="矩形 10"/>
          <p:cNvSpPr/>
          <p:nvPr/>
        </p:nvSpPr>
        <p:spPr>
          <a:xfrm>
            <a:off x="527040" y="-15840"/>
            <a:ext cx="1152360" cy="811080"/>
          </a:xfrm>
          <a:prstGeom prst="rect">
            <a:avLst/>
          </a:prstGeom>
          <a:solidFill>
            <a:srgbClr val="dfe4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矩形 11"/>
          <p:cNvSpPr/>
          <p:nvPr/>
        </p:nvSpPr>
        <p:spPr>
          <a:xfrm>
            <a:off x="436680" y="34920"/>
            <a:ext cx="147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030a0"/>
                </a:solidFill>
                <a:latin typeface="黑体"/>
                <a:ea typeface="黑体"/>
              </a:rPr>
              <a:t>沙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3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1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2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2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4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Picture 2" descr="D:\2014\燕八下备课\塔里木盆地\塔里木盆地的绿洲、城镇和交通线的分布.jpg"/>
          <p:cNvPicPr/>
          <p:nvPr/>
        </p:nvPicPr>
        <p:blipFill>
          <a:blip r:embed="rId1"/>
          <a:stretch/>
        </p:blipFill>
        <p:spPr>
          <a:xfrm>
            <a:off x="4600440" y="1058760"/>
            <a:ext cx="3992760" cy="2598840"/>
          </a:xfrm>
          <a:prstGeom prst="rect">
            <a:avLst/>
          </a:prstGeom>
          <a:ln w="0">
            <a:noFill/>
          </a:ln>
        </p:spPr>
      </p:pic>
      <p:pic>
        <p:nvPicPr>
          <p:cNvPr id="489" name="图片 4" descr=""/>
          <p:cNvPicPr/>
          <p:nvPr/>
        </p:nvPicPr>
        <p:blipFill>
          <a:blip r:embed="rId2"/>
          <a:srcRect l="0" t="0" r="0" b="6924"/>
          <a:stretch/>
        </p:blipFill>
        <p:spPr>
          <a:xfrm>
            <a:off x="4643280" y="1060560"/>
            <a:ext cx="3945240" cy="2597040"/>
          </a:xfrm>
          <a:prstGeom prst="rect">
            <a:avLst/>
          </a:prstGeom>
          <a:ln w="0">
            <a:noFill/>
          </a:ln>
        </p:spPr>
      </p:pic>
      <p:pic>
        <p:nvPicPr>
          <p:cNvPr id="490" name="内容占位符 3" descr=""/>
          <p:cNvPicPr/>
          <p:nvPr/>
        </p:nvPicPr>
        <p:blipFill>
          <a:blip r:embed="rId3"/>
          <a:srcRect l="0" t="46810" r="0" b="30698"/>
          <a:stretch/>
        </p:blipFill>
        <p:spPr>
          <a:xfrm>
            <a:off x="0" y="0"/>
            <a:ext cx="9177480" cy="915840"/>
          </a:xfrm>
          <a:prstGeom prst="rect">
            <a:avLst/>
          </a:prstGeom>
          <a:ln w="0">
            <a:noFill/>
          </a:ln>
        </p:spPr>
      </p:pic>
      <p:pic>
        <p:nvPicPr>
          <p:cNvPr id="491" name="图片 1" descr=""/>
          <p:cNvPicPr/>
          <p:nvPr/>
        </p:nvPicPr>
        <p:blipFill>
          <a:blip r:embed="rId4"/>
          <a:stretch/>
        </p:blipFill>
        <p:spPr>
          <a:xfrm>
            <a:off x="530280" y="1060560"/>
            <a:ext cx="3940200" cy="2609640"/>
          </a:xfrm>
          <a:prstGeom prst="rect">
            <a:avLst/>
          </a:prstGeom>
          <a:ln w="0">
            <a:noFill/>
          </a:ln>
        </p:spPr>
      </p:pic>
      <p:sp>
        <p:nvSpPr>
          <p:cNvPr id="492" name="TextBox 7"/>
          <p:cNvSpPr/>
          <p:nvPr/>
        </p:nvSpPr>
        <p:spPr>
          <a:xfrm>
            <a:off x="611280" y="3686040"/>
            <a:ext cx="37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高山冰雪融水具</a:t>
            </a:r>
            <a:r>
              <a:rPr b="1" lang="zh-CN" sz="2400" spc="-1" strike="noStrike">
                <a:solidFill>
                  <a:srgbClr val="ff0000"/>
                </a:solidFill>
                <a:latin typeface="幼圆"/>
                <a:ea typeface="幼圆"/>
              </a:rPr>
              <a:t>季节性变化的特点</a:t>
            </a:r>
            <a:r>
              <a:rPr b="1" lang="zh-CN" sz="2400" spc="-1" strike="noStrike">
                <a:solidFill>
                  <a:srgbClr val="7030a0"/>
                </a:solidFill>
                <a:latin typeface="幼圆"/>
                <a:ea typeface="幼圆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冬季，形成冰雪；夏季，冰雪融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Box 11"/>
          <p:cNvSpPr/>
          <p:nvPr/>
        </p:nvSpPr>
        <p:spPr>
          <a:xfrm>
            <a:off x="4815000" y="3795840"/>
            <a:ext cx="37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在山地，</a:t>
            </a:r>
            <a:r>
              <a:rPr b="1" lang="zh-CN" sz="2400" spc="-1" strike="noStrike">
                <a:solidFill>
                  <a:srgbClr val="ff0000"/>
                </a:solidFill>
                <a:latin typeface="幼圆"/>
                <a:ea typeface="幼圆"/>
              </a:rPr>
              <a:t>迎风坡降水多</a:t>
            </a:r>
            <a:r>
              <a:rPr b="1" lang="zh-CN" sz="2400" spc="-1" strike="noStrike">
                <a:solidFill>
                  <a:srgbClr val="7030a0"/>
                </a:solidFill>
                <a:latin typeface="幼圆"/>
                <a:ea typeface="幼圆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背风坡降水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0280" y="1091880"/>
            <a:ext cx="2952720" cy="718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f5897"/>
                </a:solidFill>
                <a:latin typeface="幼圆"/>
              </a:rPr>
              <a:t>高山冰雪融水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5" name="标题 1"/>
          <p:cNvSpPr/>
          <p:nvPr/>
        </p:nvSpPr>
        <p:spPr>
          <a:xfrm>
            <a:off x="4643280" y="1076400"/>
            <a:ext cx="2060640" cy="72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5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f5897"/>
                </a:solidFill>
                <a:latin typeface="幼圆"/>
                <a:ea typeface="幼圆"/>
              </a:rPr>
              <a:t>山地降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矩形 14"/>
          <p:cNvSpPr/>
          <p:nvPr/>
        </p:nvSpPr>
        <p:spPr>
          <a:xfrm>
            <a:off x="527040" y="-15840"/>
            <a:ext cx="2173320" cy="811080"/>
          </a:xfrm>
          <a:prstGeom prst="rect">
            <a:avLst/>
          </a:prstGeom>
          <a:solidFill>
            <a:srgbClr val="dfe4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矩形 15"/>
          <p:cNvSpPr/>
          <p:nvPr/>
        </p:nvSpPr>
        <p:spPr>
          <a:xfrm>
            <a:off x="436680" y="34920"/>
            <a:ext cx="25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030a0"/>
                </a:solidFill>
                <a:latin typeface="黑体"/>
                <a:ea typeface="黑体"/>
              </a:rPr>
              <a:t>绿洲水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8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7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7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内容占位符 3" descr=""/>
          <p:cNvPicPr/>
          <p:nvPr/>
        </p:nvPicPr>
        <p:blipFill>
          <a:blip r:embed="rId1"/>
          <a:srcRect l="0" t="46810" r="0" b="30698"/>
          <a:stretch/>
        </p:blipFill>
        <p:spPr>
          <a:xfrm>
            <a:off x="0" y="0"/>
            <a:ext cx="9177480" cy="915840"/>
          </a:xfrm>
          <a:prstGeom prst="rect">
            <a:avLst/>
          </a:prstGeom>
          <a:ln w="0">
            <a:noFill/>
          </a:ln>
        </p:spPr>
      </p:pic>
      <p:grpSp>
        <p:nvGrpSpPr>
          <p:cNvPr id="499" name="组合 5"/>
          <p:cNvGrpSpPr/>
          <p:nvPr/>
        </p:nvGrpSpPr>
        <p:grpSpPr>
          <a:xfrm>
            <a:off x="6084720" y="1138320"/>
            <a:ext cx="2754360" cy="1752480"/>
            <a:chOff x="6084720" y="1138320"/>
            <a:chExt cx="2754360" cy="1752480"/>
          </a:xfrm>
        </p:grpSpPr>
        <p:pic>
          <p:nvPicPr>
            <p:cNvPr id="500" name="图片 4" descr=""/>
            <p:cNvPicPr/>
            <p:nvPr/>
          </p:nvPicPr>
          <p:blipFill>
            <a:blip r:embed="rId2"/>
            <a:stretch/>
          </p:blipFill>
          <p:spPr>
            <a:xfrm>
              <a:off x="6084720" y="1138320"/>
              <a:ext cx="2754360" cy="174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1" name="标题 1"/>
            <p:cNvSpPr/>
            <p:nvPr/>
          </p:nvSpPr>
          <p:spPr>
            <a:xfrm>
              <a:off x="6084720" y="2338560"/>
              <a:ext cx="882720" cy="5522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ts val="5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5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5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5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5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5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5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5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5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5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5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5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5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5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2f5897"/>
                  </a:solidFill>
                  <a:latin typeface="幼圆"/>
                  <a:ea typeface="幼圆"/>
                </a:rPr>
                <a:t>葡 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" name="组合 9"/>
          <p:cNvGrpSpPr/>
          <p:nvPr/>
        </p:nvGrpSpPr>
        <p:grpSpPr>
          <a:xfrm>
            <a:off x="312840" y="1131840"/>
            <a:ext cx="2530440" cy="1776600"/>
            <a:chOff x="312840" y="1131840"/>
            <a:chExt cx="2530440" cy="1776600"/>
          </a:xfrm>
        </p:grpSpPr>
        <p:pic>
          <p:nvPicPr>
            <p:cNvPr id="503" name="图片 2" descr=""/>
            <p:cNvPicPr/>
            <p:nvPr/>
          </p:nvPicPr>
          <p:blipFill>
            <a:blip r:embed="rId3"/>
            <a:stretch/>
          </p:blipFill>
          <p:spPr>
            <a:xfrm>
              <a:off x="312840" y="1131840"/>
              <a:ext cx="2530440" cy="177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标题 1"/>
            <p:cNvSpPr/>
            <p:nvPr/>
          </p:nvSpPr>
          <p:spPr>
            <a:xfrm>
              <a:off x="312840" y="2355840"/>
              <a:ext cx="1019160" cy="542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ts val="5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5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5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5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5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5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5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2f5897"/>
                  </a:solidFill>
                  <a:latin typeface="幼圆"/>
                  <a:ea typeface="幼圆"/>
                </a:rPr>
                <a:t>坎儿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组合 11"/>
          <p:cNvGrpSpPr/>
          <p:nvPr/>
        </p:nvGrpSpPr>
        <p:grpSpPr>
          <a:xfrm>
            <a:off x="3132000" y="1122480"/>
            <a:ext cx="2664000" cy="1768320"/>
            <a:chOff x="3132000" y="1122480"/>
            <a:chExt cx="2664000" cy="1768320"/>
          </a:xfrm>
        </p:grpSpPr>
        <p:pic>
          <p:nvPicPr>
            <p:cNvPr id="506" name="图片 10" descr=""/>
            <p:cNvPicPr/>
            <p:nvPr/>
          </p:nvPicPr>
          <p:blipFill>
            <a:blip r:embed="rId4"/>
            <a:stretch/>
          </p:blipFill>
          <p:spPr>
            <a:xfrm>
              <a:off x="3132000" y="1122480"/>
              <a:ext cx="2664000" cy="176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7" name="标题 1"/>
            <p:cNvSpPr/>
            <p:nvPr/>
          </p:nvSpPr>
          <p:spPr>
            <a:xfrm>
              <a:off x="3132000" y="2347920"/>
              <a:ext cx="1019160" cy="542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ts val="5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5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5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5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5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5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5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2f5897"/>
                  </a:solidFill>
                  <a:latin typeface="幼圆"/>
                  <a:ea typeface="幼圆"/>
                </a:rPr>
                <a:t>长绒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TextBox 14"/>
          <p:cNvSpPr/>
          <p:nvPr/>
        </p:nvSpPr>
        <p:spPr>
          <a:xfrm>
            <a:off x="306360" y="307332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f5897"/>
                </a:solidFill>
                <a:latin typeface="幼圆"/>
                <a:ea typeface="幼圆"/>
              </a:rPr>
              <a:t>中国古代三大工程之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15"/>
          <p:cNvSpPr/>
          <p:nvPr/>
        </p:nvSpPr>
        <p:spPr>
          <a:xfrm>
            <a:off x="3132000" y="3073320"/>
            <a:ext cx="25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f5897"/>
                </a:solidFill>
                <a:latin typeface="幼圆"/>
                <a:ea typeface="幼圆"/>
              </a:rPr>
              <a:t>夏季日照充足，利于棉花生长和采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16"/>
          <p:cNvSpPr/>
          <p:nvPr/>
        </p:nvSpPr>
        <p:spPr>
          <a:xfrm>
            <a:off x="6137280" y="307332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f5897"/>
                </a:solidFill>
                <a:latin typeface="幼圆"/>
                <a:ea typeface="幼圆"/>
              </a:rPr>
              <a:t>夏季昼夜温差大，有利于瓜果糖分积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1" name="直接箭头连接符 17"/>
          <p:cNvCxnSpPr/>
          <p:nvPr/>
        </p:nvCxnSpPr>
        <p:spPr>
          <a:xfrm>
            <a:off x="4379400" y="3706560"/>
            <a:ext cx="1080" cy="64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2" name="肘形连接符 21"/>
          <p:cNvCxnSpPr/>
          <p:nvPr/>
        </p:nvCxnSpPr>
        <p:spPr>
          <a:xfrm>
            <a:off x="1566360" y="3507840"/>
            <a:ext cx="1637640" cy="1008720"/>
          </a:xfrm>
          <a:prstGeom prst="bentConnector3">
            <a:avLst>
              <a:gd name="adj1" fmla="val 263"/>
            </a:avLst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3" name="肘形连接符 25"/>
          <p:cNvCxnSpPr/>
          <p:nvPr/>
        </p:nvCxnSpPr>
        <p:spPr>
          <a:xfrm flipH="1">
            <a:off x="5651280" y="3705840"/>
            <a:ext cx="1442160" cy="810360"/>
          </a:xfrm>
          <a:prstGeom prst="bentConnector3">
            <a:avLst>
              <a:gd name="adj1" fmla="val -399"/>
            </a:avLst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14" name="TextBox 28"/>
          <p:cNvSpPr/>
          <p:nvPr/>
        </p:nvSpPr>
        <p:spPr>
          <a:xfrm>
            <a:off x="2903400" y="4192560"/>
            <a:ext cx="318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幼圆"/>
                <a:ea typeface="幼圆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幼圆"/>
                <a:ea typeface="幼圆"/>
              </a:rPr>
              <a:t>因地制宜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矩形 22"/>
          <p:cNvSpPr/>
          <p:nvPr/>
        </p:nvSpPr>
        <p:spPr>
          <a:xfrm>
            <a:off x="527040" y="-15840"/>
            <a:ext cx="1170000" cy="811080"/>
          </a:xfrm>
          <a:prstGeom prst="rect">
            <a:avLst/>
          </a:prstGeom>
          <a:solidFill>
            <a:srgbClr val="dfe4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矩形 23"/>
          <p:cNvSpPr/>
          <p:nvPr/>
        </p:nvSpPr>
        <p:spPr>
          <a:xfrm>
            <a:off x="436680" y="34920"/>
            <a:ext cx="25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030a0"/>
                </a:solidFill>
                <a:latin typeface="黑体"/>
                <a:ea typeface="黑体"/>
              </a:rPr>
              <a:t>农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8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8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8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2" dur="2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2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2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0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内容占位符 3" descr=""/>
          <p:cNvPicPr/>
          <p:nvPr/>
        </p:nvPicPr>
        <p:blipFill>
          <a:blip r:embed="rId1"/>
          <a:srcRect l="0" t="46810" r="0" b="30698"/>
          <a:stretch/>
        </p:blipFill>
        <p:spPr>
          <a:xfrm>
            <a:off x="0" y="0"/>
            <a:ext cx="9177480" cy="915840"/>
          </a:xfrm>
          <a:prstGeom prst="rect">
            <a:avLst/>
          </a:prstGeom>
          <a:ln w="0">
            <a:noFill/>
          </a:ln>
        </p:spPr>
      </p:pic>
      <p:pic>
        <p:nvPicPr>
          <p:cNvPr id="518" name="Text Box 8" descr=""/>
          <p:cNvPicPr/>
          <p:nvPr/>
        </p:nvPicPr>
        <p:blipFill>
          <a:blip r:embed="rId2"/>
          <a:stretch/>
        </p:blipFill>
        <p:spPr>
          <a:xfrm>
            <a:off x="60480" y="-6480"/>
            <a:ext cx="1933560" cy="835200"/>
          </a:xfrm>
          <a:prstGeom prst="rect">
            <a:avLst/>
          </a:prstGeom>
          <a:ln w="0">
            <a:noFill/>
          </a:ln>
        </p:spPr>
      </p:pic>
      <p:sp>
        <p:nvSpPr>
          <p:cNvPr id="519" name="标题 1"/>
          <p:cNvSpPr/>
          <p:nvPr/>
        </p:nvSpPr>
        <p:spPr>
          <a:xfrm>
            <a:off x="1122480" y="484200"/>
            <a:ext cx="90550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5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组合 2"/>
          <p:cNvGrpSpPr/>
          <p:nvPr/>
        </p:nvGrpSpPr>
        <p:grpSpPr>
          <a:xfrm>
            <a:off x="971640" y="1203480"/>
            <a:ext cx="6553080" cy="2950920"/>
            <a:chOff x="971640" y="1203480"/>
            <a:chExt cx="6553080" cy="2950920"/>
          </a:xfrm>
        </p:grpSpPr>
        <p:pic>
          <p:nvPicPr>
            <p:cNvPr id="521" name="Picture 2" descr="D:\2014\燕八下备课\塔里木盆地\塔里木盆地的绿洲、城镇和交通线的分布.jpg"/>
            <p:cNvPicPr/>
            <p:nvPr/>
          </p:nvPicPr>
          <p:blipFill>
            <a:blip r:embed="rId3"/>
            <a:stretch/>
          </p:blipFill>
          <p:spPr>
            <a:xfrm>
              <a:off x="971640" y="1203480"/>
              <a:ext cx="6553080" cy="29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2" name="任意多边形 5"/>
            <p:cNvSpPr/>
            <p:nvPr/>
          </p:nvSpPr>
          <p:spPr>
            <a:xfrm>
              <a:off x="2852640" y="1550880"/>
              <a:ext cx="1234800" cy="2060640"/>
            </a:xfrm>
            <a:custGeom>
              <a:avLst/>
              <a:gdLst/>
              <a:ahLst/>
              <a:rect l="l" t="t" r="r" b="b"/>
              <a:pathLst>
                <a:path w="1181100" h="2374900">
                  <a:moveTo>
                    <a:pt x="1181100" y="0"/>
                  </a:moveTo>
                  <a:cubicBezTo>
                    <a:pt x="1176866" y="60854"/>
                    <a:pt x="1172633" y="121708"/>
                    <a:pt x="1162050" y="171450"/>
                  </a:cubicBezTo>
                  <a:cubicBezTo>
                    <a:pt x="1151467" y="221192"/>
                    <a:pt x="1138767" y="257175"/>
                    <a:pt x="1117600" y="298450"/>
                  </a:cubicBezTo>
                  <a:cubicBezTo>
                    <a:pt x="1096433" y="339725"/>
                    <a:pt x="1062567" y="389467"/>
                    <a:pt x="1035050" y="419100"/>
                  </a:cubicBezTo>
                  <a:cubicBezTo>
                    <a:pt x="1007533" y="448733"/>
                    <a:pt x="985308" y="457200"/>
                    <a:pt x="952500" y="476250"/>
                  </a:cubicBezTo>
                  <a:cubicBezTo>
                    <a:pt x="919692" y="495300"/>
                    <a:pt x="878417" y="514350"/>
                    <a:pt x="838200" y="533400"/>
                  </a:cubicBezTo>
                  <a:cubicBezTo>
                    <a:pt x="797983" y="552450"/>
                    <a:pt x="755650" y="573617"/>
                    <a:pt x="711200" y="590550"/>
                  </a:cubicBezTo>
                  <a:cubicBezTo>
                    <a:pt x="666750" y="607483"/>
                    <a:pt x="607483" y="620183"/>
                    <a:pt x="571500" y="635000"/>
                  </a:cubicBezTo>
                  <a:cubicBezTo>
                    <a:pt x="535517" y="649817"/>
                    <a:pt x="515408" y="659342"/>
                    <a:pt x="495300" y="679450"/>
                  </a:cubicBezTo>
                  <a:cubicBezTo>
                    <a:pt x="475192" y="699558"/>
                    <a:pt x="452967" y="721783"/>
                    <a:pt x="450850" y="755650"/>
                  </a:cubicBezTo>
                  <a:cubicBezTo>
                    <a:pt x="448733" y="789517"/>
                    <a:pt x="473075" y="842433"/>
                    <a:pt x="482600" y="882650"/>
                  </a:cubicBezTo>
                  <a:cubicBezTo>
                    <a:pt x="492125" y="922867"/>
                    <a:pt x="504825" y="941917"/>
                    <a:pt x="508000" y="996950"/>
                  </a:cubicBezTo>
                  <a:cubicBezTo>
                    <a:pt x="511175" y="1051983"/>
                    <a:pt x="500592" y="1141942"/>
                    <a:pt x="501650" y="1212850"/>
                  </a:cubicBezTo>
                  <a:cubicBezTo>
                    <a:pt x="502708" y="1283758"/>
                    <a:pt x="515408" y="1366308"/>
                    <a:pt x="514350" y="1422400"/>
                  </a:cubicBezTo>
                  <a:cubicBezTo>
                    <a:pt x="513292" y="1478492"/>
                    <a:pt x="502708" y="1511300"/>
                    <a:pt x="495300" y="1549400"/>
                  </a:cubicBezTo>
                  <a:cubicBezTo>
                    <a:pt x="487892" y="1587500"/>
                    <a:pt x="482600" y="1619250"/>
                    <a:pt x="469900" y="1651000"/>
                  </a:cubicBezTo>
                  <a:cubicBezTo>
                    <a:pt x="457200" y="1682750"/>
                    <a:pt x="437092" y="1714500"/>
                    <a:pt x="419100" y="1739900"/>
                  </a:cubicBezTo>
                  <a:cubicBezTo>
                    <a:pt x="401108" y="1765300"/>
                    <a:pt x="381000" y="1778000"/>
                    <a:pt x="361950" y="1803400"/>
                  </a:cubicBezTo>
                  <a:cubicBezTo>
                    <a:pt x="342900" y="1828800"/>
                    <a:pt x="322792" y="1858433"/>
                    <a:pt x="304800" y="1892300"/>
                  </a:cubicBezTo>
                  <a:cubicBezTo>
                    <a:pt x="286808" y="1926167"/>
                    <a:pt x="265642" y="1975908"/>
                    <a:pt x="254000" y="2006600"/>
                  </a:cubicBezTo>
                  <a:cubicBezTo>
                    <a:pt x="242358" y="2037292"/>
                    <a:pt x="250825" y="2052108"/>
                    <a:pt x="234950" y="2076450"/>
                  </a:cubicBezTo>
                  <a:cubicBezTo>
                    <a:pt x="219075" y="2100792"/>
                    <a:pt x="184150" y="2131483"/>
                    <a:pt x="158750" y="2152650"/>
                  </a:cubicBezTo>
                  <a:cubicBezTo>
                    <a:pt x="133350" y="2173817"/>
                    <a:pt x="99483" y="2183342"/>
                    <a:pt x="82550" y="2203450"/>
                  </a:cubicBezTo>
                  <a:cubicBezTo>
                    <a:pt x="65617" y="2223558"/>
                    <a:pt x="63500" y="2250017"/>
                    <a:pt x="57150" y="2273300"/>
                  </a:cubicBezTo>
                  <a:cubicBezTo>
                    <a:pt x="50800" y="2296583"/>
                    <a:pt x="53975" y="2326217"/>
                    <a:pt x="44450" y="2343150"/>
                  </a:cubicBezTo>
                  <a:cubicBezTo>
                    <a:pt x="34925" y="2360083"/>
                    <a:pt x="17462" y="2367491"/>
                    <a:pt x="0" y="2374900"/>
                  </a:cubicBezTo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任意多边形 6"/>
            <p:cNvSpPr/>
            <p:nvPr/>
          </p:nvSpPr>
          <p:spPr>
            <a:xfrm>
              <a:off x="4138560" y="1484280"/>
              <a:ext cx="539640" cy="2198520"/>
            </a:xfrm>
            <a:custGeom>
              <a:avLst/>
              <a:gdLst/>
              <a:ahLst/>
              <a:rect l="l" t="t" r="r" b="b"/>
              <a:pathLst>
                <a:path w="610534" h="2425700">
                  <a:moveTo>
                    <a:pt x="585928" y="0"/>
                  </a:moveTo>
                  <a:cubicBezTo>
                    <a:pt x="581165" y="68791"/>
                    <a:pt x="576403" y="137583"/>
                    <a:pt x="579578" y="247650"/>
                  </a:cubicBezTo>
                  <a:cubicBezTo>
                    <a:pt x="582753" y="357717"/>
                    <a:pt x="603920" y="535517"/>
                    <a:pt x="604978" y="660400"/>
                  </a:cubicBezTo>
                  <a:cubicBezTo>
                    <a:pt x="606036" y="785283"/>
                    <a:pt x="625086" y="884767"/>
                    <a:pt x="585928" y="996950"/>
                  </a:cubicBezTo>
                  <a:cubicBezTo>
                    <a:pt x="546770" y="1109133"/>
                    <a:pt x="431411" y="1235075"/>
                    <a:pt x="370028" y="1333500"/>
                  </a:cubicBezTo>
                  <a:cubicBezTo>
                    <a:pt x="308645" y="1431925"/>
                    <a:pt x="255728" y="1520825"/>
                    <a:pt x="217628" y="1587500"/>
                  </a:cubicBezTo>
                  <a:cubicBezTo>
                    <a:pt x="179528" y="1654175"/>
                    <a:pt x="166828" y="1653117"/>
                    <a:pt x="141428" y="1733550"/>
                  </a:cubicBezTo>
                  <a:cubicBezTo>
                    <a:pt x="116028" y="1813983"/>
                    <a:pt x="87453" y="1966383"/>
                    <a:pt x="65228" y="2070100"/>
                  </a:cubicBezTo>
                  <a:cubicBezTo>
                    <a:pt x="43003" y="2173817"/>
                    <a:pt x="18661" y="2296583"/>
                    <a:pt x="8078" y="2355850"/>
                  </a:cubicBezTo>
                  <a:cubicBezTo>
                    <a:pt x="-2505" y="2415117"/>
                    <a:pt x="-389" y="2420408"/>
                    <a:pt x="1728" y="2425700"/>
                  </a:cubicBezTo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标题 1"/>
          <p:cNvSpPr/>
          <p:nvPr/>
        </p:nvSpPr>
        <p:spPr>
          <a:xfrm>
            <a:off x="395280" y="4103640"/>
            <a:ext cx="9217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5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f5897"/>
                </a:solidFill>
                <a:latin typeface="幼圆"/>
                <a:ea typeface="幼圆"/>
              </a:rPr>
              <a:t>图中两条纵贯沙漠的公路为什么没有被流沙吞没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4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图片 8" descr=""/>
          <p:cNvPicPr/>
          <p:nvPr/>
        </p:nvPicPr>
        <p:blipFill>
          <a:blip r:embed="rId1"/>
          <a:stretch/>
        </p:blipFill>
        <p:spPr>
          <a:xfrm>
            <a:off x="1042920" y="3143160"/>
            <a:ext cx="3213000" cy="1920960"/>
          </a:xfrm>
          <a:prstGeom prst="rect">
            <a:avLst/>
          </a:prstGeom>
          <a:ln w="0">
            <a:noFill/>
          </a:ln>
        </p:spPr>
      </p:pic>
      <p:pic>
        <p:nvPicPr>
          <p:cNvPr id="526" name="内容占位符 3" descr=""/>
          <p:cNvPicPr/>
          <p:nvPr/>
        </p:nvPicPr>
        <p:blipFill>
          <a:blip r:embed="rId2"/>
          <a:srcRect l="0" t="46810" r="0" b="30698"/>
          <a:stretch/>
        </p:blipFill>
        <p:spPr>
          <a:xfrm>
            <a:off x="0" y="0"/>
            <a:ext cx="9177480" cy="915840"/>
          </a:xfrm>
          <a:prstGeom prst="rect">
            <a:avLst/>
          </a:prstGeom>
          <a:ln w="0">
            <a:noFill/>
          </a:ln>
        </p:spPr>
      </p:pic>
      <p:pic>
        <p:nvPicPr>
          <p:cNvPr id="527" name="图片 5" descr=""/>
          <p:cNvPicPr/>
          <p:nvPr/>
        </p:nvPicPr>
        <p:blipFill>
          <a:blip r:embed="rId3"/>
          <a:stretch/>
        </p:blipFill>
        <p:spPr>
          <a:xfrm>
            <a:off x="1111320" y="944640"/>
            <a:ext cx="3073320" cy="1920960"/>
          </a:xfrm>
          <a:prstGeom prst="rect">
            <a:avLst/>
          </a:prstGeom>
          <a:ln w="0">
            <a:noFill/>
          </a:ln>
        </p:spPr>
      </p:pic>
      <p:pic>
        <p:nvPicPr>
          <p:cNvPr id="528" name="图片 1" descr=""/>
          <p:cNvPicPr/>
          <p:nvPr/>
        </p:nvPicPr>
        <p:blipFill>
          <a:blip r:embed="rId4"/>
          <a:stretch/>
        </p:blipFill>
        <p:spPr>
          <a:xfrm>
            <a:off x="4748040" y="3076560"/>
            <a:ext cx="3213360" cy="1952640"/>
          </a:xfrm>
          <a:prstGeom prst="rect">
            <a:avLst/>
          </a:prstGeom>
          <a:ln w="0">
            <a:noFill/>
          </a:ln>
        </p:spPr>
      </p:pic>
      <p:pic>
        <p:nvPicPr>
          <p:cNvPr id="529" name="图片 2" descr=""/>
          <p:cNvPicPr/>
          <p:nvPr/>
        </p:nvPicPr>
        <p:blipFill>
          <a:blip r:embed="rId5"/>
          <a:stretch/>
        </p:blipFill>
        <p:spPr>
          <a:xfrm>
            <a:off x="4776840" y="915840"/>
            <a:ext cx="3184560" cy="1949760"/>
          </a:xfrm>
          <a:prstGeom prst="rect">
            <a:avLst/>
          </a:prstGeom>
          <a:ln w="0">
            <a:noFill/>
          </a:ln>
        </p:spPr>
      </p:pic>
      <p:sp>
        <p:nvSpPr>
          <p:cNvPr id="530" name="TextBox 11"/>
          <p:cNvSpPr/>
          <p:nvPr/>
        </p:nvSpPr>
        <p:spPr>
          <a:xfrm>
            <a:off x="1128600" y="955800"/>
            <a:ext cx="25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幼圆"/>
                <a:ea typeface="幼圆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幼圆"/>
                <a:ea typeface="幼圆"/>
              </a:rPr>
              <a:t>土工布隔断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Box 12"/>
          <p:cNvSpPr/>
          <p:nvPr/>
        </p:nvSpPr>
        <p:spPr>
          <a:xfrm>
            <a:off x="1449360" y="316404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幼圆"/>
                <a:ea typeface="幼圆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幼圆"/>
                <a:ea typeface="幼圆"/>
              </a:rPr>
              <a:t>草方格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Box 13"/>
          <p:cNvSpPr/>
          <p:nvPr/>
        </p:nvSpPr>
        <p:spPr>
          <a:xfrm>
            <a:off x="5110200" y="316404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幼圆"/>
                <a:ea typeface="幼圆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幼圆"/>
                <a:ea typeface="幼圆"/>
              </a:rPr>
              <a:t>红柳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Box 14"/>
          <p:cNvSpPr/>
          <p:nvPr/>
        </p:nvSpPr>
        <p:spPr>
          <a:xfrm>
            <a:off x="5149800" y="105876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幼圆"/>
                <a:ea typeface="幼圆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幼圆"/>
                <a:ea typeface="幼圆"/>
              </a:rPr>
              <a:t>梭梭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图片 7" descr=""/>
          <p:cNvPicPr/>
          <p:nvPr/>
        </p:nvPicPr>
        <p:blipFill>
          <a:blip r:embed="rId6"/>
          <a:stretch/>
        </p:blipFill>
        <p:spPr>
          <a:xfrm>
            <a:off x="1042920" y="955800"/>
            <a:ext cx="6959520" cy="4147920"/>
          </a:xfrm>
          <a:prstGeom prst="rect">
            <a:avLst/>
          </a:prstGeom>
          <a:ln w="0">
            <a:noFill/>
          </a:ln>
        </p:spPr>
      </p:pic>
      <p:sp>
        <p:nvSpPr>
          <p:cNvPr id="535" name="TextBox 16"/>
          <p:cNvSpPr/>
          <p:nvPr/>
        </p:nvSpPr>
        <p:spPr>
          <a:xfrm>
            <a:off x="3900600" y="944640"/>
            <a:ext cx="410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幼圆"/>
                <a:ea typeface="幼圆"/>
              </a:rPr>
              <a:t>“</a:t>
            </a:r>
            <a:r>
              <a:rPr b="1" lang="zh-CN" sz="3600" spc="-1" strike="noStrike">
                <a:solidFill>
                  <a:srgbClr val="00b050"/>
                </a:solidFill>
                <a:latin typeface="幼圆"/>
              </a:rPr>
              <a:t>绿色沙漠走廊</a:t>
            </a:r>
            <a:r>
              <a:rPr b="1" lang="zh-CN" sz="3600" spc="-1" strike="noStrike">
                <a:solidFill>
                  <a:srgbClr val="00b050"/>
                </a:solidFill>
                <a:latin typeface="幼圆"/>
                <a:ea typeface="幼圆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矩形 17"/>
          <p:cNvSpPr/>
          <p:nvPr/>
        </p:nvSpPr>
        <p:spPr>
          <a:xfrm>
            <a:off x="527040" y="-15840"/>
            <a:ext cx="1170000" cy="811080"/>
          </a:xfrm>
          <a:prstGeom prst="rect">
            <a:avLst/>
          </a:prstGeom>
          <a:solidFill>
            <a:srgbClr val="dfe4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矩形 18"/>
          <p:cNvSpPr/>
          <p:nvPr/>
        </p:nvSpPr>
        <p:spPr>
          <a:xfrm>
            <a:off x="436680" y="34920"/>
            <a:ext cx="25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030a0"/>
                </a:solidFill>
                <a:latin typeface="黑体"/>
                <a:ea typeface="黑体"/>
              </a:rPr>
              <a:t>措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1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56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Text Box 8" descr=""/>
          <p:cNvPicPr/>
          <p:nvPr/>
        </p:nvPicPr>
        <p:blipFill>
          <a:blip r:embed="rId1"/>
          <a:stretch/>
        </p:blipFill>
        <p:spPr>
          <a:xfrm>
            <a:off x="60480" y="-6480"/>
            <a:ext cx="1933560" cy="835200"/>
          </a:xfrm>
          <a:prstGeom prst="rect">
            <a:avLst/>
          </a:prstGeom>
          <a:ln w="0">
            <a:noFill/>
          </a:ln>
        </p:spPr>
      </p:pic>
      <p:sp>
        <p:nvSpPr>
          <p:cNvPr id="539" name="标题 1"/>
          <p:cNvSpPr/>
          <p:nvPr/>
        </p:nvSpPr>
        <p:spPr>
          <a:xfrm>
            <a:off x="1042920" y="820800"/>
            <a:ext cx="905688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5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042920" y="483840"/>
            <a:ext cx="7251840" cy="97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f5897"/>
                </a:solidFill>
                <a:latin typeface="幼圆"/>
              </a:rPr>
              <a:t>在沙漠中修建这两条公路不仅需要花费资金，还要面临诸多困难，为什么还要修建这两条公路？</a:t>
            </a:r>
            <a:endParaRPr b="0" lang="en-US" sz="2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1" name="Text Box 6"/>
          <p:cNvSpPr/>
          <p:nvPr/>
        </p:nvSpPr>
        <p:spPr>
          <a:xfrm>
            <a:off x="6492960" y="1662120"/>
            <a:ext cx="2592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塔里木盆地油气资源储量丰富，尤其是天然气储量占全国陆上储量的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¼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左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组合 2"/>
          <p:cNvGrpSpPr/>
          <p:nvPr/>
        </p:nvGrpSpPr>
        <p:grpSpPr>
          <a:xfrm>
            <a:off x="1143000" y="1563840"/>
            <a:ext cx="5349960" cy="3553200"/>
            <a:chOff x="1143000" y="1563840"/>
            <a:chExt cx="5349960" cy="3553200"/>
          </a:xfrm>
        </p:grpSpPr>
        <p:pic>
          <p:nvPicPr>
            <p:cNvPr id="543" name="图片 2" descr=""/>
            <p:cNvPicPr/>
            <p:nvPr/>
          </p:nvPicPr>
          <p:blipFill>
            <a:blip r:embed="rId2"/>
            <a:stretch/>
          </p:blipFill>
          <p:spPr>
            <a:xfrm>
              <a:off x="1143000" y="1563840"/>
              <a:ext cx="5349960" cy="316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TextBox 1"/>
            <p:cNvSpPr/>
            <p:nvPr/>
          </p:nvSpPr>
          <p:spPr>
            <a:xfrm>
              <a:off x="1547640" y="4718160"/>
              <a:ext cx="374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塔里木盆地油气资源的分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0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10T07:57:49Z</dcterms:created>
  <dc:creator>中典计算机学院</dc:creator>
  <dc:description/>
  <dc:language>en-US</dc:language>
  <cp:lastModifiedBy>XZJD</cp:lastModifiedBy>
  <dcterms:modified xsi:type="dcterms:W3CDTF">2017-06-15T14:18:57Z</dcterms:modified>
  <cp:revision>677</cp:revision>
  <dc:subject/>
  <dc:title>第十章            南极地区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975</vt:lpwstr>
  </property>
</Properties>
</file>